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comments/comment27.xml" ContentType="application/vnd.openxmlformats-officedocument.presentationml.comments+xml"/>
  <Override PartName="/ppt/comments/comment33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907588" cy="6858000"/>
  <p:notesSz cx="9925050" cy="6796088"/>
</p:presentation>
</file>

<file path=ppt/commentAuthors.xml><?xml version="1.0" encoding="utf-8"?>
<p:cmAuthorLst xmlns:p="http://schemas.openxmlformats.org/presentationml/2006/main">
  <p:cmAuthor id="0" name="Chris Stuebner" initials="CS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<Relationship Id="rId42" Type="http://schemas.openxmlformats.org/officeDocument/2006/relationships/commentAuthors" Target="commentAuthors.xml"/>
</Relationships>
</file>

<file path=ppt/comments/comment27.xml><?xml version="1.0" encoding="utf-8"?>
<p:cmLst xmlns:p="http://schemas.openxmlformats.org/presentationml/2006/main">
  <p:cm authorId="0" dt="2004-12-28T15:22:26.233000000" idx="1">
    <p:pos x="10" y="10"/>
    <p:text>Note changes:  </p:text>
  </p:cm>
</p:cmLst>
</file>

<file path=ppt/comments/comment33.xml><?xml version="1.0" encoding="utf-8"?>
<p:cmLst xmlns:p="http://schemas.openxmlformats.org/presentationml/2006/main">
  <p:cm authorId="0" dt="2004-12-28T15:34:28.682000000" idx="2">
    <p:pos x="10" y="10"/>
    <p:text>see change in English text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562464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6457680"/>
            <a:ext cx="430200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5624640" y="6457680"/>
            <a:ext cx="430200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9A6B0-E4F6-4493-B8F8-0513410A9E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CU Supplemental Activit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ent Sup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Gr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 for workshops and confer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making services for Partn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 missions and trade sh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upgr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er Weapons Scientists who have not received STCU project funding may participate in many of these activi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Governm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Make Use of STC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o date, 17 Government Partners, including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2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URATOM Association, Gmb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4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x Planck Institute of Plasmaphys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.S. Department of Energy/Initiatives for Proliferation Prevention (IPP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3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.S. Nation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stitutes of Health/National Cancer Institu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SAF European Office of Aerospace Research and Developm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.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W Redirec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.S. Department o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gricul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vironmental Protection Agenc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772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CI provided 3 millions for study on the c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sequences of Chernobyl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cident on th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oid cancer and leuk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ia dec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OARD funding in the amount of 1.9 millions was provided pref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ably for basic research in the area of material science, namely tit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ium and alum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ium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lloys that includes a one half of this funding; the other half supported research in optics, nuclear physics, s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icond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tors, health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USDA approved 14 projects in BIO area with Uzbek institutes and funded up to date 9 of them in the amount of 2.7 millions, There are 4projects at the Institute of Gen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ics and Plant Experimental Biology, 2 projects at the Institute of Bioorg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ic Chemistry, 2 projects at the Institute of Zo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logy, and 1 at the Cotton Growing Res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ch Institute. The list of the projects will be provided later in this presentatio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PP supported 9 projects in the amount of 3.6 millions, the most of these projects are dealing with the pre-commercialization stage aimed at the creation of new employments in Ukraine. The most impressive projects will be presented later in this presentatio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PA has become STCU Partner recently, in 2003; the first project will be launched soon; it will be devoted to M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agement and Destruction of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solete Pesticides in Pilot Oblasts in Ukraine (Cherkassy and Lviv Oblast).</a:t>
            </a:r>
            <a:r>
              <a:rPr b="0" lang="uk-UA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IPP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ultip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ur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ose coating machine that will be installed at the General Electric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elding and Brazing Technology for Repair of Aircraft and Gas Turbine that will be implemented in Ukraine in cooperation with Pratt&amp;Whittney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ew revol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ionary Europium Technology for S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itizing Food and Medical supplies, which creates a cornerstone for future multimillion industry (Invitation to the Presentation/Workshop is attached)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5624640" y="6457680"/>
            <a:ext cx="430200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AD298-D1C7-4437-8F15-DBE284882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0" y="6457680"/>
            <a:ext cx="430200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62464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3122640" y="509760"/>
            <a:ext cx="3681360" cy="254952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on-Governmental Partners: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Key to Self-Sustainabi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ate, over 90 Non-Government Partners, includ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+S Electron Technologies (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лифорния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ifornia, US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M Corporation (Delaware, US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Pont (Minnesota, US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Electric (New York, US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BM (New York, US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ECL Chalk River Laboratories (Ontario, Canad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fina (Paris, Fr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elin (Clermont-Ferrand, Fr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772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ng 9.7 million provided by the Non-governmental Partners up to date there is 1.6 million from Canada, 0.6 million from EU, and 7.6 million from the US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Process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tom-Lin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u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effort required: clearly defined form and application proces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est competition for funding:  many applicants meet selection criteri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vernmental Partn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ffort required, to identify program/s and fill out varied fo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er competitors: each program interests smaller group of applicants with focused research and development inter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Governmental Partn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est effort required, to search for potential commercial spon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direct competitor for this source of fu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3122640" y="509760"/>
            <a:ext cx="3682800" cy="254952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3122640" y="509760"/>
            <a:ext cx="3682800" cy="254952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TCU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CU channels assistance to scienti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, tax-free payments (grants) to researchers’ personal bank accou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stoms clearance ass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urement of equipment and materials free of duties and tax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ching in grant-writing and project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CU helps donor countries achieve their policy ob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 for peaceful, civilian re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st government concurrence and security re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fessional project management, including technical and financial monito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ledge of Recipient Parties’ R&amp;D communities and capabili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STCU Works 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CU must assure donors that monies are well-spent, towards aim of non-proliferation of WMD scientific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project can be audited at donor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grants must be traceable to real scientists, doing real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TCU, salaries are of more importance than equip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roposed purchases must clearly support ability of people to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CU Project Management Approach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CU designates staff to monitor each regular and partner projec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CU Project Coordina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CU Project Accoun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CU Procurement Offic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CU staff visit each project on a regular, scheduled ba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six months of operative commencement 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year thereaf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frequently if problems encount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3121200" y="509760"/>
            <a:ext cx="3682800" cy="254952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gular Project Lif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3121200" y="509760"/>
            <a:ext cx="3682800" cy="254952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ner Project Life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STCU Works 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CU seeks to help integrate former weapons scientists into the broader international scientific 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tists *must* invite Western colleagues to take an interest in their project’s progres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ing a “Collaborator” is *required* for all regular project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to conferences &amp; to meet Western colleagues is encoura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“Collaborator” mea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tific or technical expert from the territory of the Financing Party who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ipates as an un-paid advisor in a regular STCU proje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dges, in writing, to assist STCU grant recipie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gree of involvement may vary; minimum expect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 the project work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ess the technical merits and feasibility of that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e that evaluation with the scientific team and financing Party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e regularly with the project team for lifetime of 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itutional affiliation may v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porate or private-sector may be more useful to scienti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ademic or government lab affiliation, so far, more typ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000" spc="-1" strike="noStrike">
                <a:solidFill>
                  <a:srgbClr val="000000"/>
                </a:solidFill>
                <a:latin typeface="Times New Roman"/>
              </a:rPr>
              <a:t>What Collaborators do 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000" spc="-1" strike="noStrike">
                <a:solidFill>
                  <a:srgbClr val="000000"/>
                </a:solidFill>
                <a:latin typeface="Times New Roman"/>
              </a:rPr>
              <a:t>Prior to funding decision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000" spc="-1" strike="noStrike">
                <a:solidFill>
                  <a:srgbClr val="000000"/>
                </a:solidFill>
                <a:latin typeface="Times New Roman"/>
              </a:rPr>
              <a:t>Provide recommendatios during the development of the draft project proposal and work plan</a:t>
            </a:r>
            <a:r>
              <a:rPr b="0" i="1" lang="en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000" spc="-1" strike="noStrike">
                <a:solidFill>
                  <a:srgbClr val="3333cc"/>
                </a:solidFill>
                <a:latin typeface="Times New Roman"/>
              </a:rPr>
              <a:t>Review and assess work plan subsequent to HGC</a:t>
            </a:r>
            <a:r>
              <a:rPr b="0" lang="en" sz="1000" spc="-1" strike="noStrike">
                <a:solidFill>
                  <a:srgbClr val="000000"/>
                </a:solidFill>
                <a:latin typeface="Times New Roman"/>
              </a:rPr>
              <a:t>.   Consider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000" spc="-1" strike="noStrike">
                <a:solidFill>
                  <a:srgbClr val="000000"/>
                </a:solidFill>
                <a:latin typeface="Times New Roman"/>
              </a:rPr>
              <a:t>Quality of science proposed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000" spc="-1" strike="noStrike">
                <a:solidFill>
                  <a:srgbClr val="000000"/>
                </a:solidFill>
                <a:latin typeface="Times New Roman"/>
              </a:rPr>
              <a:t>Feasibility of approach and time lines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000" spc="-1" strike="noStrike">
                <a:solidFill>
                  <a:srgbClr val="000000"/>
                </a:solidFill>
                <a:latin typeface="Times New Roman"/>
              </a:rPr>
              <a:t>Adequacy of equipment/materials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000" spc="-1" strike="noStrike">
                <a:solidFill>
                  <a:srgbClr val="000000"/>
                </a:solidFill>
                <a:latin typeface="Times New Roman"/>
              </a:rPr>
              <a:t>During consideration of the project proposal, </a:t>
            </a:r>
            <a:r>
              <a:rPr b="1" lang="en" sz="1000" spc="-1" strike="noStrike">
                <a:solidFill>
                  <a:srgbClr val="3333cc"/>
                </a:solidFill>
                <a:latin typeface="Times New Roman"/>
              </a:rPr>
              <a:t>communicate to the project team and to the financing Parties the results of this assessment</a:t>
            </a:r>
            <a:r>
              <a:rPr b="0" lang="en" sz="1000" spc="-1" strike="noStrike">
                <a:solidFill>
                  <a:srgbClr val="000000"/>
                </a:solidFill>
                <a:latin typeface="Times New Roman"/>
              </a:rPr>
              <a:t>, expressed a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0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r>
              <a:rPr b="0" lang="en" sz="1000" spc="-1" strike="noStrike">
                <a:solidFill>
                  <a:srgbClr val="000000"/>
                </a:solidFill>
                <a:latin typeface="Times New Roman"/>
              </a:rPr>
              <a:t> of the work plan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000" spc="-1" strike="noStrike">
                <a:solidFill>
                  <a:srgbClr val="000000"/>
                </a:solidFill>
                <a:latin typeface="Times New Roman"/>
              </a:rPr>
              <a:t>Disapproval</a:t>
            </a:r>
            <a:r>
              <a:rPr b="0" lang="en" sz="1000" spc="-1" strike="noStrike">
                <a:solidFill>
                  <a:srgbClr val="000000"/>
                </a:solidFill>
                <a:latin typeface="Times New Roman"/>
              </a:rPr>
              <a:t> (along with reasons), 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000" spc="-1" strike="noStrike">
                <a:solidFill>
                  <a:srgbClr val="000000"/>
                </a:solidFill>
                <a:latin typeface="Times New Roman"/>
              </a:rPr>
              <a:t>Limited approval</a:t>
            </a:r>
            <a:r>
              <a:rPr b="0" lang="en" sz="1000" spc="-1" strike="noStrike">
                <a:solidFill>
                  <a:srgbClr val="000000"/>
                </a:solidFill>
                <a:latin typeface="Times New Roman"/>
              </a:rPr>
              <a:t> (along with a description of specific concerns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inimum expectations in blue ink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Project fund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Communicate regularly by e-mail with CIS instit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Review all quarterly project reports.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 project team adjust technical and commercial language and terminology to an accepted level for a North American or European reader/revie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hange technical information or assistance, including mutual review of technical repor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Provide guidance or recommendation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s appropriate, to enable attainment of project goals as set out in the work p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e awareness of developments in applied science and technology that relate to 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As Project progress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Recruit other foreign collaborators to assist te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Communicate results of related on-going studies in West, particularly at collaborator’s labora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Share scarce materials, samples, and/or resour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Help project team select cost-advantageous research tools, instrumentation, and necessary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Conduct joint or parallel investig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Assist with interpretation of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Verify results using independent methods and/or equip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 to ST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CU Mis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m do we hel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help come fr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Support We Prov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we hel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regular projec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partner projec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else does STCU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I pick a path forwar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As Project progress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Conduct joint seminars, workshops, and cons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Host scientists from project team and/or allow use of facilities at collaborator’s 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Visit STCU scientists’ project si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(recommended: at least once, but not more than three times over lifetime of STCU projec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Review and edit draft final report, to ensure it clearly reflects results of the research conduc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Assist with publication and/or dissemination of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Help with commercialization of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ing a Collabo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ethods have worked for other STCU scientis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 Internet for those doing science in same fiel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te correspondence with authors of publications and conference reports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while attending international conferences and exhibi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lt with STCU Partnership Group, Project Coordinators, and other staff members experienced in establishing cooperation with international institu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lso how one investigates possible sources of funding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cting a potential collabo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STCU scientists recomme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e yoursel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, briefly, your experience in the fiel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what the collaborator might find interesting about your proposed 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if he knows anyone who might be interested in serving as an unpaid advisor to your projec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he says, ‘I might be interested…”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th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ways that collaborators typically hel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e introductory material on STCU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 more detailed project information (with a non-disclosure agreement in place, if project is commercially-sensitiv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efits of Collab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Western Collaborator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ct with highly-skilled scientists and engineers from Georgia, Uzbekistan and Azerbaijan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ipation in experiments at unique installations and facilities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cipated results arising from STCU Projects, (with protection of the Intellectual Property Rights of project participant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ved focus and efficiency of Research and Development activity through information exchange and consultation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stake in commercialization of resul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efits of Collab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TCU Project Participa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vement in the design and execution of projects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urance that projects do not duplicate existing efforts in the same fields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istance in identifying appropriate sources of special materials and equipment to be used in projects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quisition of new skills, experience and contacts with related research centers in other countries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idance on how best to internationally disseminate the results of research and developmen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-term cooperation in science and technology from experience gained during project implementa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ters of Sup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etter of Support </a:t>
            </a: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is an relatively </a:t>
            </a:r>
            <a:r>
              <a:rPr b="1" lang="en" sz="1200" spc="-1" strike="noStrike">
                <a:solidFill>
                  <a:srgbClr val="000000"/>
                </a:solidFill>
                <a:latin typeface="Times New Roman"/>
              </a:rPr>
              <a:t>passive</a:t>
            </a: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 expression of approval by a Western scientist regard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a scientist, project team or institute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the direction of current or proposed research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positive past experiences working with the team; 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the value of proposed research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A Letter of Support differs from a Pledge of Collaboration by virtue of two element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it does not contain a specific assessment of the strength of the current proposal and/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it does not convey a clear commitment to future participation or engagement in that 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CU Requi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 STCU policy requir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One Letter of Collaboration or two Letters of Support before a regular project proposal can leave STCU for review by the Financing Pa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If a project is selected for funding, the project team must find a Collaborator from the territory of the funding Party before the project agreement can be finaliz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If the original Letter of Collaboration was from a scientist in the EU, and the project is funded by the U.S., they will need to locate a U.S. Collabor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</a:rPr>
              <a:t>If the project had only Letters of Support, they will now need to find a Collabor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funded STCU projects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ave a Partner or a Collaborato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CU offers scientists three paths to fund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ular Projects funded from a shared pot of f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ner Projects funded by Government bo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ner Projects funded by commercial organ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ree paths share common ele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st Government Concur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CU Project 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agement with Western scientific or technical personnel, either as Partners (donors) or as Collaborators (volunteer adviso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ur Mis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prolifer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ent the spread of Weapons of Mass Destruction (WMD) expertise by supportin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vilian research and development activities of Azeri, Georgian, Moldovan, Ukrainian and Uzbek scientists and engineers formerly involved with WM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ir means of delive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ustainable Redirec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opportunities for former WMD scientists and engineers to develop sustainable civilian research work 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o be eligible for STCU funding, at least 30%, and preferably 50%, of the members of a proposed project team must be former weapons scientist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77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ly, STCU Governing Parties include 8 stat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ada, EU, and the USA are the Funding Pa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countries of the FSU are the Recipient Part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1997 STCU has l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au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ched a Partner Program providing governm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tal agencies and priv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, industrial companies 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stered at the territories of Funding Parties with a possibility of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cess to highly q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u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ied scientific community of the Recipient Countries and implement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on of R&amp;D projects using STCU s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vices and pr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l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 including project administ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on, m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oring, and t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p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leg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CU Collaborative Scientific Re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gula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rojects are funded by governments of Financing Part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n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rojects are funded by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overnment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ivate-sect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zations in the territories of the Financing Pa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ree types of STCU Proje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gula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Selected for funding based on multiple considerations, which may include technical merit, contribution to non-proliferation aims, policy priorities, potential for integration of scientists into global science community, commercial potential or prospect for sustainabilit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roposal competes with all other regular project propos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n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rojec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overnmenta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parate pots of money, separate ru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n-Governmental: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competition; just need to locate willing partner to finance project &amp; receive STCU approv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Who can apply?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CU Recipient Party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rganization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submit project proposal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y be an institute, university, design office, state enterprise, corporation, firm, fund, foundation, or other legally-registered organiza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veral organizations, in one or more STCU recipient countries, may submit a ‘joint proposal.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ject team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, led by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ject manager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, develop proposal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grant recipients must be citizens of an STCU recipient countr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t least 30%, preferably 50%, of the team must formerly have been involved with weapons of mass destruction and their means of deliver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Young scientists may participate;  they can even form and lead their own teams, so long as the resultant team meets STCU guidelin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Joint Proposal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enable small groups of scientists to compete effectively, by allowing them to add resources from other organizations to includ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fficient numbers of former weapons scientists to meet STCU guidelin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pecialists with skills or abilities critical to achieve project objectiv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1324080" y="3228840"/>
            <a:ext cx="72784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Who can apply?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CU Recipient Party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rganization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submit project proposal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y be an institute, university, design office, state enterprise, corporation, firm, fund, foundation, or other legally-registered organiza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veral organizations, in one or more STCU recipient countries, may submit a ‘joint proposal.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ject team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, led by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ject manager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, develop proposal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grant recipients must be citizens of an STCU recipient countr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t least 30%, preferably 50%, of the team must formerly have been involved with weapons of mass destruction and their means of deliver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Young scientists may participate;  they can even form and lead their own teams, so long as the resultant team meets STCU guidelin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Joint Proposal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enable small groups of scientists to compete effectively, by allowing them to add resources from other organizations to includ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fficient numbers of former weapons scientists to meet STCU guidelin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pecialists with skills or abilities critical to achieve project objectiv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2775-C5FF-4AC9-98D9-890A04B97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22280"/>
            <a:ext cx="8705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6D4E-D8AC-498F-9077-01E83FF14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17960" y="159984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2228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17960" y="402228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F936-B0AD-45AA-8677-24226A7A0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802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00200" y="1599840"/>
            <a:ext cx="2802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43920" y="1599840"/>
            <a:ext cx="2802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22280"/>
            <a:ext cx="2802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00200" y="4022280"/>
            <a:ext cx="2802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43920" y="4022280"/>
            <a:ext cx="2802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F6AC-AD1E-4BCE-B4FF-3BD766A99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EAAF-1276-433C-AE21-216C48C57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FAA7-23C9-43D2-A9C3-275E0E0AF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483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17960" y="1599840"/>
            <a:ext cx="42483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1942-D39A-49CB-9D92-701E1E07D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2475-53B5-4F96-9DB5-1AA8667D9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4520" y="2743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22DB-62CE-4D4C-8E03-CC46FE71A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7960" y="1599840"/>
            <a:ext cx="42483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2228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C471-B735-43B5-95BD-806BD555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483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17960" y="159984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17960" y="402228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BC5E-31B0-4E5D-9B86-6DDDE0B2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17960" y="159984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22280"/>
            <a:ext cx="8705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2A73-2801-442F-8B8C-B30B337B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0360" y="6453000"/>
            <a:ext cx="259740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6E95-5D35-45DE-9DAF-A9E39039EF4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453000"/>
            <a:ext cx="31366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453000"/>
            <a:ext cx="20638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0950C-85F4-47BF-B2E4-F6D57340D7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00160" y="284040"/>
            <a:ext cx="769680" cy="1133640"/>
          </a:xfrm>
          <a:prstGeom prst="rect">
            <a:avLst/>
          </a:prstGeom>
          <a:ln w="0">
            <a:noFill/>
          </a:ln>
        </p:spPr>
      </p:pic>
      <p:sp>
        <p:nvSpPr>
          <p:cNvPr id="6" name="Base" hidden="1"/>
          <p:cNvSpPr/>
          <p:nvPr/>
        </p:nvSpPr>
        <p:spPr>
          <a:xfrm>
            <a:off x="1650960" y="1227240"/>
            <a:ext cx="66042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27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3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еминар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 эффективно конкурировать 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писании гран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4880" y="3886200"/>
            <a:ext cx="7677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лучшение вашей конкурентоспособности на получение гранта в УНТ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20880" y="549360"/>
            <a:ext cx="312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КРАИНСКИЙ НАУЧНО-ТЕХНОЛОГИЧЕСКИЙ ЦЕНТ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58880" y="642636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рт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ополнительные виды деятельности УНТ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тентная поддерж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нты на зарубежные командировки для учены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держка конференций и семинар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нинг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иск взаимных интересов между Западными партнерами и учеными стран УНТЦ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знес миссии и участие в выставках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дернизация Интерне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92160" y="5229360"/>
            <a:ext cx="7845480" cy="11912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ывшие военные ученые, которые не получили финансирование своих проектов от УНТЦ, могут участвовать в этих программах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B84B-84E4-41AA-83F6-F5E4B037DFB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9BD11C-FAB9-4D78-A0E0-36F2B72C711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19120" y="6453360"/>
            <a:ext cx="833400" cy="39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инансирование проектов УНТЦ </a:t>
            </a:r>
            <a:br>
              <a:rPr sz="36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спределение средств на текущие проекты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.е. без учета выданных грантов на проектную деятельность в будущ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27160" y="1633680"/>
          <a:ext cx="9766080" cy="52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7160" y="1633680"/>
                    <a:ext cx="9766080" cy="52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 rot="16200000">
            <a:off x="-1267560" y="4118040"/>
            <a:ext cx="348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инансирование,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лн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Ш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048520" y="5084640"/>
            <a:ext cx="1513080" cy="719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7473960" y="5445000"/>
            <a:ext cx="5745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84880" y="2371680"/>
            <a:ext cx="505080" cy="1488960"/>
          </a:xfrm>
          <a:custGeom>
            <a:avLst/>
            <a:gdLst>
              <a:gd name="textAreaLeft" fmla="*/ 322920 w 505080"/>
              <a:gd name="textAreaRight" fmla="*/ 505440 w 505080"/>
              <a:gd name="textAreaTop" fmla="*/ 38520 h 1488960"/>
              <a:gd name="textAreaBottom" fmla="*/ 1450440 h 148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61240" y="2060640"/>
            <a:ext cx="2016000" cy="8636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89960" y="3257640"/>
            <a:ext cx="2087280" cy="892080"/>
          </a:xfrm>
          <a:prstGeom prst="hexagon">
            <a:avLst>
              <a:gd name="adj" fmla="val 58495"/>
              <a:gd name="vf" fmla="val 11547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968960" y="2151000"/>
            <a:ext cx="166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правитель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вен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002080" y="3303720"/>
            <a:ext cx="141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авитель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вен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050680" y="5207040"/>
            <a:ext cx="14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егуляр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856A-1BAD-4FDD-BDD0-4DA814E21F2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81F3BF-2C55-4C1F-A9BF-8391F35943B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авительственные программы работают через УНТ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918036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сегодняшний день – 17</a:t>
            </a:r>
            <a:r>
              <a:rPr b="0" lang="ru-RU" sz="20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ительственных партнеров, включа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ATOM Association, Gmb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Ассоциация Евроат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4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 Planck Institute of Plasmaphysic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Макс Планк Институт Плазмофизи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.S. Department of Energy/Initiatives for Proliferation Prevention (DOE/IPP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Департамент США по энергетике/Инициатива по предотвращению распростран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.S. Natio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s of Health/National Cancer Institute (NIH/NCI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Национальные институты здравоохранения США/Национальный институт исследования ра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F European Office of Aerospace Research and Development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Европейский офис Американских воздушных сил для исследований и развития в области космонавти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.S. Bio-Chem Redirect Progra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Программа США по переориента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.S. Department o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riculture (USDA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600" spc="-1" strike="noStrike">
                <a:solidFill>
                  <a:srgbClr val="3333cc"/>
                </a:solidFill>
                <a:latin typeface="Arial"/>
              </a:rPr>
              <a:t>Департамент сельского хозяйства СШ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ironmental Protection Agency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600" spc="-1" strike="noStrike">
                <a:solidFill>
                  <a:srgbClr val="3333cc"/>
                </a:solidFill>
                <a:latin typeface="Arial"/>
              </a:rPr>
              <a:t>Агентство по защите окружающей сред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832880" y="498600"/>
            <a:ext cx="1800000" cy="769680"/>
          </a:xfrm>
          <a:prstGeom prst="hexagon">
            <a:avLst>
              <a:gd name="adj" fmla="val 58466"/>
              <a:gd name="vf" fmla="val 11547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42B4-2216-45B5-B2B3-2A635E9DE31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ED0C7E-BED5-47C3-873E-59F4E3D0DB8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04880" y="27432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авительственные партнерские проек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-5776920" y="2060640"/>
          <a:ext cx="20005560" cy="470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776920" y="2060640"/>
                    <a:ext cx="20005560" cy="47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1712880" y="1773360"/>
            <a:ext cx="72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г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81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никальных проек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лн долларов США и 1.5 млн евр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29600" y="498600"/>
            <a:ext cx="1800000" cy="769680"/>
          </a:xfrm>
          <a:prstGeom prst="hexagon">
            <a:avLst>
              <a:gd name="adj" fmla="val 58466"/>
              <a:gd name="vf" fmla="val 11547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08120" y="6438960"/>
            <a:ext cx="48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близительный усредненный курс, 1 доллар США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: 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вр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2B5F-A299-4824-A426-98F3A1BC6888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3CD397-D9EF-47B2-97E8-21EA96539C6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75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п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вительственные партнеры: ключ к самодостаточ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сегодняшний день, свыше 9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правительственных партнеров, включая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+S Electron Technologies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лифорния, СШ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M Corporation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несота, СШ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Pont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лавэ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Ш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Electric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ью Йор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Ш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M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Нью Йор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Ш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ECL Chalk River Laboratories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тари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на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fina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и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ранц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helin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ермонт-Феранд,Франц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50320" y="558720"/>
            <a:ext cx="1655640" cy="7095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82FE-C588-4867-A4B1-C6FF72AE1DB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92A2B2-DE68-4467-B0B0-BC03708F30C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прав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тельственные партнерские проект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-1569960" y="2203560"/>
          <a:ext cx="12815640" cy="43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69960" y="2203560"/>
                    <a:ext cx="12815640" cy="43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1900080" y="1628640"/>
            <a:ext cx="694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г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ект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9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лн долларов США и 0.5 млн евро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08120" y="6438960"/>
            <a:ext cx="48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близительный усредненный курс, 1 доллар США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: 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вр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761240" y="476280"/>
            <a:ext cx="1655640" cy="7095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419D-FBD7-4516-AAE8-018FD2E6306D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63F502-467A-491E-A547-36FEEF301C3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цесс рассмотрения заявления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68360" y="1596960"/>
          <a:ext cx="8744040" cy="465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96960"/>
                    <a:ext cx="8744040" cy="46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200160" y="1487520"/>
            <a:ext cx="4537080" cy="525456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477720" y="1728720"/>
            <a:ext cx="3966840" cy="749160"/>
            <a:chOff x="477720" y="1728720"/>
            <a:chExt cx="3966840" cy="749160"/>
          </a:xfrm>
        </p:grpSpPr>
        <p:sp>
          <p:nvSpPr>
            <p:cNvPr id="171" name=""/>
            <p:cNvSpPr/>
            <p:nvPr/>
          </p:nvSpPr>
          <p:spPr>
            <a:xfrm>
              <a:off x="477720" y="1728720"/>
              <a:ext cx="3966840" cy="7462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35400" y="1744560"/>
              <a:ext cx="3790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Подготовка предложения научной группой: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РЕГИСТРАЦИОННАЯ СИСТЕМА </a:t>
              </a: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ON-LIN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444600" y="2682720"/>
            <a:ext cx="4033440" cy="746280"/>
            <a:chOff x="444600" y="2682720"/>
            <a:chExt cx="4033440" cy="746280"/>
          </a:xfrm>
        </p:grpSpPr>
        <p:sp>
          <p:nvSpPr>
            <p:cNvPr id="174" name=""/>
            <p:cNvSpPr/>
            <p:nvPr/>
          </p:nvSpPr>
          <p:spPr>
            <a:xfrm>
              <a:off x="501120" y="2682720"/>
              <a:ext cx="3976920" cy="7462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44600" y="2694240"/>
              <a:ext cx="39488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Ходатайство о получении поддержки от ученых-коллабораторов на территории стран финансирующих сторон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528480" y="4281480"/>
            <a:ext cx="3970080" cy="745920"/>
            <a:chOff x="528480" y="4281480"/>
            <a:chExt cx="3970080" cy="745920"/>
          </a:xfrm>
        </p:grpSpPr>
        <p:sp>
          <p:nvSpPr>
            <p:cNvPr id="177" name=""/>
            <p:cNvSpPr/>
            <p:nvPr/>
          </p:nvSpPr>
          <p:spPr>
            <a:xfrm>
              <a:off x="528480" y="4281480"/>
              <a:ext cx="3970080" cy="7459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7120" y="4281480"/>
              <a:ext cx="3817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Рассмотрение предложений консультантами, которые нанимаются каждой из финансирующих сторон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471960" y="5218200"/>
            <a:ext cx="4028400" cy="745920"/>
            <a:chOff x="471960" y="5218200"/>
            <a:chExt cx="4028400" cy="745920"/>
          </a:xfrm>
        </p:grpSpPr>
        <p:sp>
          <p:nvSpPr>
            <p:cNvPr id="180" name=""/>
            <p:cNvSpPr/>
            <p:nvPr/>
          </p:nvSpPr>
          <p:spPr>
            <a:xfrm>
              <a:off x="525600" y="5218200"/>
              <a:ext cx="3974760" cy="7459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71960" y="5229720"/>
              <a:ext cx="3969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Административный совет УНТЦ одобряет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финансирование проекта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(</a:t>
              </a: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июнь и декабрь</a:t>
              </a: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343080" y="6122880"/>
            <a:ext cx="4105080" cy="52020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близительно одно из четырех предложений в результате финансируетс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468360" y="3595680"/>
            <a:ext cx="4033440" cy="528480"/>
            <a:chOff x="468360" y="3595680"/>
            <a:chExt cx="4033440" cy="528480"/>
          </a:xfrm>
        </p:grpSpPr>
        <p:sp>
          <p:nvSpPr>
            <p:cNvPr id="184" name=""/>
            <p:cNvSpPr/>
            <p:nvPr/>
          </p:nvSpPr>
          <p:spPr>
            <a:xfrm>
              <a:off x="524880" y="3595680"/>
              <a:ext cx="3976920" cy="4863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68360" y="3603960"/>
              <a:ext cx="394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Согласие от правительства страны- реципиента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5168880" y="1487520"/>
            <a:ext cx="4537080" cy="5254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009900"/>
              </a:gs>
              <a:gs pos="100000">
                <a:srgbClr val="3333cc"/>
              </a:gs>
            </a:gsLst>
            <a:lin ang="10800000"/>
          </a:gra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5381640" y="1728720"/>
            <a:ext cx="4095360" cy="1391760"/>
            <a:chOff x="5381640" y="1728720"/>
            <a:chExt cx="4095360" cy="1391760"/>
          </a:xfrm>
        </p:grpSpPr>
        <p:sp>
          <p:nvSpPr>
            <p:cNvPr id="188" name=""/>
            <p:cNvSpPr/>
            <p:nvPr/>
          </p:nvSpPr>
          <p:spPr>
            <a:xfrm>
              <a:off x="5381640" y="1728720"/>
              <a:ext cx="4095360" cy="13795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438880" y="1747800"/>
              <a:ext cx="401256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Организация на территории одной из финансирующих сторон выражает интерес к программе УНТЦ и становится ПАРТНЕРОМ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.</a:t>
              </a: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 u="sng">
                  <a:solidFill>
                    <a:srgbClr val="000099"/>
                  </a:solidFill>
                  <a:uFillTx/>
                  <a:latin typeface="Arial"/>
                </a:rPr>
                <a:t>НЕОБХОДИМО ОДОБРЕНИЕ СТОРОН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(30</a:t>
              </a: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 дней</a:t>
              </a: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5384880" y="3255840"/>
            <a:ext cx="4104720" cy="528840"/>
            <a:chOff x="5384880" y="3255840"/>
            <a:chExt cx="4104720" cy="528840"/>
          </a:xfrm>
        </p:grpSpPr>
        <p:sp>
          <p:nvSpPr>
            <p:cNvPr id="191" name=""/>
            <p:cNvSpPr/>
            <p:nvPr/>
          </p:nvSpPr>
          <p:spPr>
            <a:xfrm>
              <a:off x="5384880" y="3255840"/>
              <a:ext cx="4104720" cy="5288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17640" y="3264120"/>
              <a:ext cx="3926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Партнер и группа ученых разрабатывают проектное предложение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5396040" y="4621320"/>
            <a:ext cx="4101480" cy="1067760"/>
            <a:chOff x="5396040" y="4621320"/>
            <a:chExt cx="4101480" cy="1067760"/>
          </a:xfrm>
        </p:grpSpPr>
        <p:sp>
          <p:nvSpPr>
            <p:cNvPr id="194" name=""/>
            <p:cNvSpPr/>
            <p:nvPr/>
          </p:nvSpPr>
          <p:spPr>
            <a:xfrm>
              <a:off x="5396040" y="4621320"/>
              <a:ext cx="4101480" cy="10677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36360" y="4645800"/>
              <a:ext cx="3943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Предложение рассматривается официальными лицами каждой из финансирующих сторо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(45 </a:t>
              </a: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дней</a:t>
              </a: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5338800" y="3952800"/>
            <a:ext cx="4158720" cy="526680"/>
            <a:chOff x="5338800" y="3952800"/>
            <a:chExt cx="4158720" cy="526680"/>
          </a:xfrm>
        </p:grpSpPr>
        <p:sp>
          <p:nvSpPr>
            <p:cNvPr id="197" name=""/>
            <p:cNvSpPr/>
            <p:nvPr/>
          </p:nvSpPr>
          <p:spPr>
            <a:xfrm>
              <a:off x="5397120" y="3952800"/>
              <a:ext cx="4100400" cy="5256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338800" y="3959280"/>
              <a:ext cx="4071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Согласие от правительства страны-реципиента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5429160" y="5848200"/>
            <a:ext cx="4101840" cy="752400"/>
            <a:chOff x="5429160" y="5848200"/>
            <a:chExt cx="4101840" cy="752400"/>
          </a:xfrm>
        </p:grpSpPr>
        <p:sp>
          <p:nvSpPr>
            <p:cNvPr id="200" name=""/>
            <p:cNvSpPr/>
            <p:nvPr/>
          </p:nvSpPr>
          <p:spPr>
            <a:xfrm>
              <a:off x="5429160" y="5848200"/>
              <a:ext cx="4101840" cy="7459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615280" y="5867280"/>
              <a:ext cx="38271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Административный совет УНТЦ одобряет финансирование проекта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(</a:t>
              </a:r>
              <a:r>
                <a:rPr b="1" lang="ru-RU" sz="1400" spc="-1" strike="noStrike">
                  <a:solidFill>
                    <a:srgbClr val="000099"/>
                  </a:solidFill>
                  <a:latin typeface="Arial"/>
                </a:rPr>
                <a:t>вне цикла</a:t>
              </a: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184400" y="1027080"/>
            <a:ext cx="31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Регулярные проек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37200" y="1027080"/>
            <a:ext cx="32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Партнерские проек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B658-645F-43FC-9869-B032342D652F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6725F8-CFF4-46B9-BB50-EFC7B1F9B53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дведем ито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91756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гулярные проект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ньше усилий: форма и процесс подачи заявления четко определе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льная конкуренция на получение финансирования: мног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искателей соответствуют критериям отб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ительственный партнерский проек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е усилий, чтобы определить программу/мы и заполнить различные фор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ньше конкурентов: каждая программа заинтересована в небольшой группе соискателей, занимающихся узконаправленными исследованиями и разработк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правительственный партнерский проек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е всего усилий, чтобы найти потенциального коммерческого спонс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сутствие прямых конкурентов для данного источника финансир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21E9-DB08-4FBF-AE89-CC7C5E79A24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020C7E-91BC-4B08-A86B-A79651939BC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еминар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 эффективно конкурировать 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писании гран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064880" y="3886200"/>
            <a:ext cx="7677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лучшение вашей конкурентоспособности на получение гранта в УНТ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20880" y="549360"/>
            <a:ext cx="312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краинский Научно-Технологический Цент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58880" y="642636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рт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зор семина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30200" y="1557360"/>
            <a:ext cx="8694720" cy="1512720"/>
          </a:xfrm>
          <a:custGeom>
            <a:avLst/>
            <a:gdLst>
              <a:gd name="textAreaLeft" fmla="*/ 1090800 w 8694720"/>
              <a:gd name="textAreaRight" fmla="*/ 7603920 w 8694720"/>
              <a:gd name="textAreaTop" fmla="*/ 189720 h 1512720"/>
              <a:gd name="textAreaBottom" fmla="*/ 132300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72" y="21600"/>
                </a:lnTo>
                <a:lnTo>
                  <a:pt x="1728" y="216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вышение мастерства написания грантов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ас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Как «выиграть» новое финансир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аст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Содержание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а, и стиль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ложен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аст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исание «типичного» предлож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208160" y="3141720"/>
            <a:ext cx="7157880" cy="1652400"/>
          </a:xfrm>
          <a:custGeom>
            <a:avLst/>
            <a:gdLst>
              <a:gd name="textAreaLeft" fmla="*/ 995760 w 7157880"/>
              <a:gd name="textAreaRight" fmla="*/ 6162120 w 7157880"/>
              <a:gd name="textAreaTop" fmla="*/ 229680 h 1652400"/>
              <a:gd name="textAreaBottom" fmla="*/ 1422720 h 165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341" y="21600"/>
                </a:lnTo>
                <a:lnTo>
                  <a:pt x="2259" y="21600"/>
                </a:lnTo>
                <a:close/>
              </a:path>
            </a:pathLst>
          </a:custGeom>
          <a:solidFill>
            <a:srgbClr val="66ffcc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вышение конкурентоспособнос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получении грантов от УНТЦ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аст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Представление УНТ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часть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I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: Как работает УНТ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432160" y="5878440"/>
            <a:ext cx="4752720" cy="790560"/>
          </a:xfrm>
          <a:custGeom>
            <a:avLst/>
            <a:gdLst>
              <a:gd name="textAreaLeft" fmla="*/ 598320 w 4752720"/>
              <a:gd name="textAreaRight" fmla="*/ 4154400 w 4752720"/>
              <a:gd name="textAreaTop" fmla="*/ 99360 h 790560"/>
              <a:gd name="textAreaBottom" fmla="*/ 691200 h 79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54" y="21600"/>
                </a:lnTo>
                <a:lnTo>
                  <a:pt x="1746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дач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гулярного проекта в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НТЦ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000160" y="4898880"/>
            <a:ext cx="5616720" cy="892440"/>
          </a:xfrm>
          <a:custGeom>
            <a:avLst/>
            <a:gdLst>
              <a:gd name="textAreaLeft" fmla="*/ 675000 w 5616720"/>
              <a:gd name="textAreaRight" fmla="*/ 4941720 w 5616720"/>
              <a:gd name="textAreaTop" fmla="*/ 107280 h 892440"/>
              <a:gd name="textAreaBottom" fmla="*/ 785160 h 89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077" y="21600"/>
                </a:lnTo>
                <a:lnTo>
                  <a:pt x="1523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егодняшняя точка зрения рецензенто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Ш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04880" y="4552920"/>
            <a:ext cx="180036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6550-920B-4870-942D-2281F1BA424C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742B69-3F49-4608-A530-DEE4DFDD439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зор семина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30200" y="1557360"/>
            <a:ext cx="8694720" cy="1512720"/>
          </a:xfrm>
          <a:custGeom>
            <a:avLst/>
            <a:gdLst>
              <a:gd name="textAreaLeft" fmla="*/ 1090800 w 8694720"/>
              <a:gd name="textAreaRight" fmla="*/ 7603920 w 8694720"/>
              <a:gd name="textAreaTop" fmla="*/ 189720 h 1512720"/>
              <a:gd name="textAreaBottom" fmla="*/ 132300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72" y="21600"/>
                </a:lnTo>
                <a:lnTo>
                  <a:pt x="1728" y="216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вышение мастерства написания грантов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ас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Как «выиграть» новое финансир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аст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Содержание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а и стиль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ложен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аст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исание «типичного» предлож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08160" y="3141720"/>
            <a:ext cx="7157880" cy="1652400"/>
          </a:xfrm>
          <a:custGeom>
            <a:avLst/>
            <a:gdLst>
              <a:gd name="textAreaLeft" fmla="*/ 995760 w 7157880"/>
              <a:gd name="textAreaRight" fmla="*/ 6162120 w 7157880"/>
              <a:gd name="textAreaTop" fmla="*/ 229680 h 1652400"/>
              <a:gd name="textAreaBottom" fmla="*/ 1422720 h 165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341" y="21600"/>
                </a:lnTo>
                <a:lnTo>
                  <a:pt x="2259" y="21600"/>
                </a:lnTo>
                <a:close/>
              </a:path>
            </a:pathLst>
          </a:custGeom>
          <a:solidFill>
            <a:srgbClr val="66ffcc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вышение конкурентоспособнос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получении грантов от УНТ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часть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: Представление УНТ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аст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 работает УНТ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32160" y="5878440"/>
            <a:ext cx="4752720" cy="790560"/>
          </a:xfrm>
          <a:custGeom>
            <a:avLst/>
            <a:gdLst>
              <a:gd name="textAreaLeft" fmla="*/ 598320 w 4752720"/>
              <a:gd name="textAreaRight" fmla="*/ 4154400 w 4752720"/>
              <a:gd name="textAreaTop" fmla="*/ 99360 h 790560"/>
              <a:gd name="textAreaBottom" fmla="*/ 691200 h 79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54" y="21600"/>
                </a:lnTo>
                <a:lnTo>
                  <a:pt x="1746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дач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гулярного проекта в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НТЦ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00160" y="4898880"/>
            <a:ext cx="5616720" cy="892440"/>
          </a:xfrm>
          <a:custGeom>
            <a:avLst/>
            <a:gdLst>
              <a:gd name="textAreaLeft" fmla="*/ 675000 w 5616720"/>
              <a:gd name="textAreaRight" fmla="*/ 4941720 w 5616720"/>
              <a:gd name="textAreaTop" fmla="*/ 107280 h 892440"/>
              <a:gd name="textAreaBottom" fmla="*/ 785160 h 89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077" y="21600"/>
                </a:lnTo>
                <a:lnTo>
                  <a:pt x="1523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егодняшняя точка зрения рецензенто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Ш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4880" y="4206960"/>
            <a:ext cx="158436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5BA0-FE98-43E9-B8D6-85872C76C5E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699593-F329-45FB-8226-E58B4522C3A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ем занимается УНТЦ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417680"/>
            <a:ext cx="870588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НТЦ предоставляет помощь учены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ямые, не облагаемые налогом платежи (гранты) прямо на личные банковские счета учены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луги по «таможенной очистке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упка оборудования и материалов без налогов и пошли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учение в написании проектов и руководстве проект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НТЦ помогает странам-донорам достичь их политических цел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держка исследований в мирных целя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ение государственного разрешения и просмотр на предмет безопас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фессиональное руководство проектами, включая технический и финансовый мониторинг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комство с научной общественностью и возможностями в странах-реципиент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26F6-5AC3-4DD9-A162-6BA4895FA73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B84802-567D-4ACF-9AC0-A798E743797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работает УНТЦ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НТЦ должен убедить стран-доноров, что деньги правильно потрачены в целях нераспространения ядерного оружия и научных знаний в области оружия массового уничтожен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любому проекту по просьбе стран-доноров может быть проведен ауди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гранты должны быть такими, в которых можно отследить, что деньги идут реальным ученым, которые делают реальную работ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УНТЦ оплата труда  является более важным, чем закупка оборудования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предлагаемые закупки обеспечивают людей возможностью работа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A633-D84F-4F47-B6E2-41C4D94E5BD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80F848-C6DC-4533-8C32-886228A44F0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дход УНТЦ к управлению проект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НТЦ назначает персонал, который координирует каждый регулярный и партнерский проек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рший специалист УНТЦ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ухгалтер по проектам УНТЦ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ециалист по закупкам УНТ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трудники УНТЦ на регулярной основе (согласно расписанию) проверяют каждый партнерский и регулярный проек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ечение шести месяцев от даты начала работ по проект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жегодно впоследств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лучае возникновения проблем, более част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CAE6-C47A-4429-9818-EA9B0C794C2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8DB738-C162-4764-92F4-52C513CA71B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Цикл прохождения регулярного проект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7840" y="3760920"/>
            <a:ext cx="9566280" cy="22604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7840" y="1773360"/>
            <a:ext cx="9566280" cy="2017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500880" y="360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512040" y="360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6465600" y="3594240"/>
            <a:ext cx="366480" cy="428760"/>
            <a:chOff x="6465600" y="3594240"/>
            <a:chExt cx="366480" cy="428760"/>
          </a:xfrm>
        </p:grpSpPr>
        <p:sp>
          <p:nvSpPr>
            <p:cNvPr id="228" name=""/>
            <p:cNvSpPr/>
            <p:nvPr/>
          </p:nvSpPr>
          <p:spPr>
            <a:xfrm>
              <a:off x="6787800" y="35942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465600" y="374652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6070680" y="3313080"/>
            <a:ext cx="0" cy="5256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970360" y="3252960"/>
            <a:ext cx="0" cy="5364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98720" y="3281400"/>
            <a:ext cx="0" cy="5079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6753240" y="3592440"/>
            <a:ext cx="366480" cy="428760"/>
            <a:chOff x="6753240" y="3592440"/>
            <a:chExt cx="366480" cy="428760"/>
          </a:xfrm>
        </p:grpSpPr>
        <p:sp>
          <p:nvSpPr>
            <p:cNvPr id="234" name=""/>
            <p:cNvSpPr/>
            <p:nvPr/>
          </p:nvSpPr>
          <p:spPr>
            <a:xfrm>
              <a:off x="7075440" y="35924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753240" y="374472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058520" y="3591000"/>
            <a:ext cx="366480" cy="428760"/>
            <a:chOff x="7058520" y="3591000"/>
            <a:chExt cx="366480" cy="428760"/>
          </a:xfrm>
        </p:grpSpPr>
        <p:sp>
          <p:nvSpPr>
            <p:cNvPr id="237" name=""/>
            <p:cNvSpPr/>
            <p:nvPr/>
          </p:nvSpPr>
          <p:spPr>
            <a:xfrm>
              <a:off x="7381440" y="3591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058520" y="374328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7362720" y="3592440"/>
            <a:ext cx="366480" cy="428760"/>
            <a:chOff x="7362720" y="3592440"/>
            <a:chExt cx="366480" cy="428760"/>
          </a:xfrm>
        </p:grpSpPr>
        <p:sp>
          <p:nvSpPr>
            <p:cNvPr id="240" name=""/>
            <p:cNvSpPr/>
            <p:nvPr/>
          </p:nvSpPr>
          <p:spPr>
            <a:xfrm>
              <a:off x="7684920" y="35924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362720" y="374472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7667640" y="3591000"/>
            <a:ext cx="366480" cy="428760"/>
            <a:chOff x="7667640" y="3591000"/>
            <a:chExt cx="366480" cy="428760"/>
          </a:xfrm>
        </p:grpSpPr>
        <p:sp>
          <p:nvSpPr>
            <p:cNvPr id="243" name=""/>
            <p:cNvSpPr/>
            <p:nvPr/>
          </p:nvSpPr>
          <p:spPr>
            <a:xfrm>
              <a:off x="7989840" y="3591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67640" y="374328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7972200" y="3592440"/>
            <a:ext cx="366480" cy="428760"/>
            <a:chOff x="7972200" y="3592440"/>
            <a:chExt cx="366480" cy="428760"/>
          </a:xfrm>
        </p:grpSpPr>
        <p:sp>
          <p:nvSpPr>
            <p:cNvPr id="246" name=""/>
            <p:cNvSpPr/>
            <p:nvPr/>
          </p:nvSpPr>
          <p:spPr>
            <a:xfrm>
              <a:off x="8294400" y="35924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972200" y="374472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8277120" y="3594240"/>
            <a:ext cx="366480" cy="428760"/>
            <a:chOff x="8277120" y="3594240"/>
            <a:chExt cx="366480" cy="428760"/>
          </a:xfrm>
        </p:grpSpPr>
        <p:sp>
          <p:nvSpPr>
            <p:cNvPr id="249" name=""/>
            <p:cNvSpPr/>
            <p:nvPr/>
          </p:nvSpPr>
          <p:spPr>
            <a:xfrm>
              <a:off x="8599320" y="35942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277120" y="374652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8582040" y="3591000"/>
            <a:ext cx="366480" cy="428760"/>
            <a:chOff x="8582040" y="3591000"/>
            <a:chExt cx="366480" cy="428760"/>
          </a:xfrm>
        </p:grpSpPr>
        <p:sp>
          <p:nvSpPr>
            <p:cNvPr id="252" name=""/>
            <p:cNvSpPr/>
            <p:nvPr/>
          </p:nvSpPr>
          <p:spPr>
            <a:xfrm>
              <a:off x="8904240" y="3591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582040" y="374328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2327400" y="2205000"/>
            <a:ext cx="1761840" cy="10764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лож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полна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416480" y="2205000"/>
            <a:ext cx="2138400" cy="10764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говор по проекту и Рабочий пла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49200" y="2205000"/>
            <a:ext cx="1854360" cy="10764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явка (короткая форм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705720" y="2208240"/>
            <a:ext cx="2895480" cy="10764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вартальные, технические, ежегодные и финальные отче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7894800" y="3284280"/>
            <a:ext cx="1009440" cy="306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7427880" y="3284280"/>
            <a:ext cx="466920" cy="306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7894800" y="3284280"/>
            <a:ext cx="380880" cy="323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6834240" y="3284280"/>
            <a:ext cx="1060560" cy="306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12040" y="3760920"/>
            <a:ext cx="2743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940040" y="37180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408480" y="3591000"/>
            <a:ext cx="0" cy="17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64120" y="37180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1025280" y="3760920"/>
            <a:ext cx="547524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905280" y="3952800"/>
            <a:ext cx="22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седание Административного совет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87440" y="3948120"/>
            <a:ext cx="2160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проводительное письмо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7240" y="3946680"/>
            <a:ext cx="250992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м. исполнительного директора одобряет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гистрация проек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72120" y="3946680"/>
            <a:ext cx="341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изиты-мониторинги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исьма при изменении целей использования запланированных статей бюдже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465280" y="5064120"/>
            <a:ext cx="22384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таршие специалисты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директор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094360" y="5064120"/>
            <a:ext cx="2490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таршие специалисты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бухгалтера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пециалисты по закупкам,  директор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440480" y="4941720"/>
            <a:ext cx="248148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таршие специалисты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бухгалтера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пециалисты по закупкам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директор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6072120" y="3746160"/>
            <a:ext cx="0" cy="131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616120" y="3230640"/>
            <a:ext cx="18003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Гос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разреш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624120" y="3787920"/>
            <a:ext cx="0" cy="23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2480" y="174780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Times New Roman"/>
              </a:rPr>
              <a:t>Уче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3760" y="5564160"/>
            <a:ext cx="26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Сотрудники УНТ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6A6E-B2D2-4D71-B9C3-42901D4CC692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2685CE-1917-4C6B-B1A9-1A4B4878FFC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Цикл прохождения партнерского прое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00160" y="1844640"/>
            <a:ext cx="9432720" cy="1971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00160" y="3813120"/>
            <a:ext cx="9432720" cy="24242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01240" y="177336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Times New Roman"/>
              </a:rPr>
              <a:t>Уче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5600" y="5805360"/>
            <a:ext cx="26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Сотрудники УНТ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181480" y="3355920"/>
            <a:ext cx="0" cy="5810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990720" y="3330720"/>
            <a:ext cx="0" cy="5061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43000" y="2357280"/>
            <a:ext cx="1962000" cy="10004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ерновик пятистраничной форм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338720" y="2357280"/>
            <a:ext cx="1676160" cy="10004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артнерский контрак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124080" y="3708360"/>
            <a:ext cx="0" cy="1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91120" y="3670200"/>
            <a:ext cx="0" cy="5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456840" y="3833640"/>
            <a:ext cx="5522760" cy="32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5181480" y="3833280"/>
            <a:ext cx="0" cy="17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057400" y="3664080"/>
            <a:ext cx="0" cy="57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262240" y="2357280"/>
            <a:ext cx="2019240" cy="10004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ятистраничная форма-предлож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438280" y="3330720"/>
            <a:ext cx="0" cy="447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5537160"/>
            <a:ext cx="24750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Бухгалтера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пециалисты по закупкам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Директор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16200000">
            <a:off x="3601800" y="3482640"/>
            <a:ext cx="76320" cy="984600"/>
          </a:xfrm>
          <a:custGeom>
            <a:avLst/>
            <a:gdLst>
              <a:gd name="textAreaLeft" fmla="*/ 48960 w 76320"/>
              <a:gd name="textAreaRight" fmla="*/ 76320 w 76320"/>
              <a:gd name="textAreaTop" fmla="*/ 25560 h 984600"/>
              <a:gd name="textAreaBottom" fmla="*/ 959040 h 98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921040" y="3975120"/>
            <a:ext cx="1560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45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дне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979960" y="36813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991120" y="36813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945040" y="3666960"/>
            <a:ext cx="366480" cy="428760"/>
            <a:chOff x="5945040" y="3666960"/>
            <a:chExt cx="366480" cy="428760"/>
          </a:xfrm>
        </p:grpSpPr>
        <p:sp>
          <p:nvSpPr>
            <p:cNvPr id="301" name=""/>
            <p:cNvSpPr/>
            <p:nvPr/>
          </p:nvSpPr>
          <p:spPr>
            <a:xfrm>
              <a:off x="6267240" y="36669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945040" y="381924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6232320" y="3665520"/>
            <a:ext cx="366480" cy="428760"/>
            <a:chOff x="6232320" y="3665520"/>
            <a:chExt cx="366480" cy="428760"/>
          </a:xfrm>
        </p:grpSpPr>
        <p:sp>
          <p:nvSpPr>
            <p:cNvPr id="304" name=""/>
            <p:cNvSpPr/>
            <p:nvPr/>
          </p:nvSpPr>
          <p:spPr>
            <a:xfrm>
              <a:off x="6554520" y="36655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232320" y="381780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6537240" y="3664080"/>
            <a:ext cx="366480" cy="428760"/>
            <a:chOff x="6537240" y="3664080"/>
            <a:chExt cx="366480" cy="428760"/>
          </a:xfrm>
        </p:grpSpPr>
        <p:sp>
          <p:nvSpPr>
            <p:cNvPr id="307" name=""/>
            <p:cNvSpPr/>
            <p:nvPr/>
          </p:nvSpPr>
          <p:spPr>
            <a:xfrm>
              <a:off x="6859440" y="3664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537240" y="381636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6842880" y="3665520"/>
            <a:ext cx="366480" cy="428760"/>
            <a:chOff x="6842880" y="3665520"/>
            <a:chExt cx="366480" cy="428760"/>
          </a:xfrm>
        </p:grpSpPr>
        <p:sp>
          <p:nvSpPr>
            <p:cNvPr id="310" name=""/>
            <p:cNvSpPr/>
            <p:nvPr/>
          </p:nvSpPr>
          <p:spPr>
            <a:xfrm>
              <a:off x="7164360" y="36655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842880" y="381780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7146720" y="3664080"/>
            <a:ext cx="366480" cy="428760"/>
            <a:chOff x="7146720" y="3664080"/>
            <a:chExt cx="366480" cy="428760"/>
          </a:xfrm>
        </p:grpSpPr>
        <p:sp>
          <p:nvSpPr>
            <p:cNvPr id="313" name=""/>
            <p:cNvSpPr/>
            <p:nvPr/>
          </p:nvSpPr>
          <p:spPr>
            <a:xfrm>
              <a:off x="7468920" y="3664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146720" y="381636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7451640" y="3665520"/>
            <a:ext cx="366480" cy="428760"/>
            <a:chOff x="7451640" y="3665520"/>
            <a:chExt cx="366480" cy="428760"/>
          </a:xfrm>
        </p:grpSpPr>
        <p:sp>
          <p:nvSpPr>
            <p:cNvPr id="316" name=""/>
            <p:cNvSpPr/>
            <p:nvPr/>
          </p:nvSpPr>
          <p:spPr>
            <a:xfrm>
              <a:off x="7773840" y="36655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451640" y="381780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7756200" y="3666960"/>
            <a:ext cx="366480" cy="428760"/>
            <a:chOff x="7756200" y="3666960"/>
            <a:chExt cx="366480" cy="428760"/>
          </a:xfrm>
        </p:grpSpPr>
        <p:sp>
          <p:nvSpPr>
            <p:cNvPr id="319" name=""/>
            <p:cNvSpPr/>
            <p:nvPr/>
          </p:nvSpPr>
          <p:spPr>
            <a:xfrm>
              <a:off x="8078400" y="36669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756200" y="381924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8383680" y="3664080"/>
            <a:ext cx="0" cy="178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062200" y="381636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54840" y="2357280"/>
            <a:ext cx="2981160" cy="10004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хнические результаты, квартальные и финальные отче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 flipV="1">
            <a:off x="7316640" y="3330720"/>
            <a:ext cx="1067040" cy="333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6905520" y="3330720"/>
            <a:ext cx="411120" cy="333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7316280" y="3330720"/>
            <a:ext cx="438120" cy="350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6313320" y="3330720"/>
            <a:ext cx="1003320" cy="333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991120" y="3833640"/>
            <a:ext cx="2743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066680" y="4160880"/>
            <a:ext cx="19814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гистра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92560" y="4284720"/>
            <a:ext cx="18050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Право Финансирующих сторон отказа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45240" y="3997440"/>
            <a:ext cx="38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изиты-мониторинги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исьма при изменении целей использования запланированных статей бюдже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772480" y="2865600"/>
            <a:ext cx="3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915400" y="3022560"/>
            <a:ext cx="8571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УНТ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809200" y="3184560"/>
            <a:ext cx="29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8809200" y="2894040"/>
            <a:ext cx="328320" cy="27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57200" y="5181480"/>
            <a:ext cx="4724280" cy="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181480" y="5181480"/>
            <a:ext cx="4591080" cy="0"/>
          </a:xfrm>
          <a:prstGeom prst="line">
            <a:avLst/>
          </a:prstGeom>
          <a:ln w="190440">
            <a:solidFill>
              <a:srgbClr val="b2b2b2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80" y="5029200"/>
            <a:ext cx="3352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Менеджер Партнерской программ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990720" y="38602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191120" y="5370480"/>
            <a:ext cx="979200" cy="0"/>
          </a:xfrm>
          <a:prstGeom prst="line">
            <a:avLst/>
          </a:prstGeom>
          <a:ln w="19044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195880" y="5370480"/>
            <a:ext cx="3187800" cy="0"/>
          </a:xfrm>
          <a:prstGeom prst="line">
            <a:avLst/>
          </a:prstGeom>
          <a:ln w="190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143680" y="5232240"/>
            <a:ext cx="2172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таршие специалист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191120" y="4851360"/>
            <a:ext cx="0" cy="63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990720" y="5376960"/>
            <a:ext cx="3200400" cy="0"/>
          </a:xfrm>
          <a:prstGeom prst="line">
            <a:avLst/>
          </a:prstGeom>
          <a:ln w="1904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16160" y="3303720"/>
            <a:ext cx="18003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Гос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разреш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985240" y="2700360"/>
            <a:ext cx="1014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Партне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897600" y="5516640"/>
            <a:ext cx="24750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Бухгалтера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пециалисты по закупкам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Директор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DBC8-5DDE-455B-8760-9539F0A6ECAA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CBD329-1B0F-4CAE-A05F-A3614BE2D91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работает УНТЦ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НТЦ помогает бывшим ученым - «оборонщикам» интегрироваться в мировую научную общественнос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ны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лжн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влекать своих западных коллег в заинтересованном участии в осуществлении проек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лич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лаборато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*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буетс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всех регулярных проект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ездки на конференции и встречи с Западными коллегами поощряютс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8C18-C8B9-46EC-9306-6C1C100E4C9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DAA059-0253-475C-BFCE-8C557D7EBC5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значит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ллаборатор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учный или технический эксперт с территории финансирующей стороны, который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имает участие как «неоплачиваемый» советник в регулярных проектах УНТЦ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исьменной форме поручается в помощи получателям гранта УНТ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епень их вовлеченности может варьироватьс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нимум ожидан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смотр рабочего пла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ценка технических качеств и осуществимости данного пла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суждение данной «оценки» с научной командой и финансирующей стороно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держивание контактов с членами команды на регулярной основе в течение выполнения проек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уктура организации может быть различно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поративный или частный сектор может быть полезным для учены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адемическая или правительственная принадлежность лаборатории, что на данный момент более часто встреча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5417-A722-4293-8B1A-5A00AF26EF50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BE28E4-553B-4235-909E-C3631CEA208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делают коллаборатор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(1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1868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вынесения решения о финансировании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комендации при разработке черновика предложения и рабочего пла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Просмотр и оценка рабочего плана после получения Правительственного разрешения</a:t>
            </a:r>
            <a:r>
              <a:rPr b="0" lang="en" sz="2000" spc="-1" strike="noStrike">
                <a:solidFill>
                  <a:srgbClr val="3333cc"/>
                </a:solidFill>
                <a:latin typeface="Arial"/>
              </a:rPr>
              <a:t>.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ывается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чество научного предложения;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уществимость подхода и временные пределы;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ответствие оборудова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риалов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В период рассмотрения проектного предложения поддержание контактов с командой по проекту и финансирующими сторонами касательно результатов оценки,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выражается как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тверждение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чего плана;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клонение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комментариями и причинами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граниченное подтверждение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описаниями конкретных моментов, которые его беспокоят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432160" y="6375240"/>
            <a:ext cx="59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Минимум ожиданий обозначены голубым шрифт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DAA4-AE69-4DD2-AAB0-826007C115F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6EB27F-CF7C-477A-AA19-D16434E8146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делают коллабораторы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ле того, как проект зафинансирова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Регулярно поддерживают контакты по электронной почте с институтом из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страны СНГ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Просматривают квартальные отчеты по проектам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огает команде проекта изменить техническую и коммерческую терминологию и язык для того, чтобы довести содержание до уровня, понятного северо-американскому или европейскому читател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цензент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мен технической информацией и помощь, включая совместный просмотр технических отчет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Предоставляют рекомендаци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гда это необходим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обеспечения выполнения целей проекта, как это было указано в Рабочем план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лятся знаниями о разработках в прикладной науке и технологиях, касающихся проек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576520" y="6237360"/>
            <a:ext cx="560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Минимум ожиданий обозначены голубым шрифт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D8FA-6216-4E6E-AD3B-189A05BD434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C47BF2-2334-420F-ACF4-A3BEC939EDE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делают коллаборатор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(3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ходе проекта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влекают других иностранных коллабораторов для помощи команд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суждают результаты похожих текущих исследований на Западе, в частности, в лаборатории, где работает сам коллаборато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лятся дефицитными материалами, пробами, образцами 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ресурсами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огают проектной команде выбирать наиболее выгодные исследовательские инструменты, оборудование и необходимые химика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одят совместные или параллельные исслед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огают при интерпретации результа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тверждают результаты, используя независимые методы 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оборудование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649600" y="6375240"/>
            <a:ext cx="604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Минимум ожиданий обозначены голубым шрифт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541C-D412-4E0F-A241-1370D30B21D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123241-52C9-40C0-A91B-B7C70F78EF5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дставление УНТ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иссия УНТ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у мы оказываем помощ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уда приходит эта помощ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иды поддержки, которую мы оказываем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м образом мы оказываем помощ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регулярные проект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партнерские проект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еще делает УНТ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ой путь вам выбрать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493F-687A-4E30-AF88-803F9FFB3D5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ADAEF4-7F42-481F-9768-376056EEA6F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делают коллабораторы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ходе проекта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одят совместные семинары, конференции и консульт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глашают ученых из команды проекта 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позволяют использовать оборудование в лаборатории коллаборато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ещают места, где осуществляются научные проекты УНТЦ: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9360" indent="-372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омендуется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минимум один, но не более трех раз в течение всего периода прохождения проекта УНТЦ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сматривают и вносят поправки в черновой вариант финального отчета для того, чтобы удостовериться, что он четко отражает результаты проведенного исследования;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огают с публикациями и/или с использованием результатов проек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огают с коммерциализацией результа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505240" y="6375240"/>
            <a:ext cx="64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Минимум ожиданий обозначены голубым шрифт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0614-C96A-4742-A490-C0B37C88778D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D56427-3EDE-4A21-9388-4D1408AA843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иск коллаборато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е методы использовались в поиске коллабораторов другими учеными УНТ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иск по Интернету людей, которые работают в той же обла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ициирование переписки с авторами публикаций и докладов на конференция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трудничество и налаживание контактов во время посещения международных конференций и выставо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сультации с Партнерской группой УНТЦ, Старшими  специалистами и другими сотрудниками, которые имеют опыт в установлении сотрудничества с международными института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784520" y="5373720"/>
            <a:ext cx="6264000" cy="10810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та же методология используется при поиске возможных источников финансирован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347B-0B9A-48A4-902E-3E7F7F18903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7A9299-BB0D-4C8E-AD6A-58F69FCFB27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 установить контакт с потенциальным коллаборатор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рекомендуют ученые УНТ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ставьтес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ишит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ротк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ш опыт в данной сфере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ясните, что может быть интересного для коллаборатора в предложенном вами проект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росите, знает ли он кого-нибудь, кто может быть заинтересован в том, чтобы участвовать на нефинансовой основе как советник по вашему проект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он скаже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”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мог бы заинтересоватьс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”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тогда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ишите возможности помощи коллаборатор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оставьте ознакомительные материалы об УНТЦ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йте более детальную информаци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одписанием соглашения о нераспространении информации, если проект коммерчески важе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D41B-B921-4957-889A-6CB8D94A235B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416336-8306-4A73-89A1-FCB989A3846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ем выгодно коллаборатор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западного Коллаборатор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такты с очень опытными учеными 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женерами из Грузии, Узбекистана и Азербайджа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стие в экспериментах на уникальных установках и оборудован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жидаемые результат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защитой Прав интеллектуальной собственности для участников проек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лучшенная направленность и результативность научно-исследовательской деятельности посредством обмена информацией и консультац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тенциальное участие в коммерциализации результат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D1C4-EE9B-420B-B418-FCAF17D4F895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8C8F08-5AB8-4FF1-8208-26184A2D184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ем выгодно коллаборатор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91044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участников проектов УНТ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лучшение в разработке и выполнении проект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веренность в  том, что проекты не дублируют уже существующие попытки в тех же областях нау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ощь в определении подходящих источников специальных материалов и оборудования для использования в проекта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обретение новых навыков, опыта и контактов с подобными центрами в других страна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ководство о том, как лучше в международном масштабе использовать результаты исследований и разработо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лгосрочное сотрудничество по науке и технологии, полученное из опыта работы по выполнению проек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F32F-382E-4805-B8AD-A0AD9BFD00D8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A9E94C-8B4E-43FA-BE62-AA4738F7D71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исьма поддерж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сьмо поддержки  - это достаточно пассивное выражение согласия Западным ученым касательно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ного, команды проекта или института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авления текущего или предложенного исследования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зитивного предыдущего опыта работы с командой по проекту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нности предложенного исследования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сьмо поддержки отличается от согласия быть Коллаборатором наличием двух элементов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о не содержит конкретной оценки сильных сторон данного предложения 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выражает четкого обязательства участия или вовлечения в данный проект в будущем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360A-57E1-4A4F-9024-720192C49EF2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63EE0F-3F64-412D-BB35-FDC0E311B7A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ребования УНТ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кущая политика УНТЦ требуе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о письмо Коллаборатора или два письма поддержки до того, как регулярный проект будет выставлен УНТЦ на западную экспертизу Финансирующих сторо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проект выбран для финансирования, команда по проекту должна найти коллаборатора с территории Финансирующей стороны до того, как будет закончена работа по подготовке проектного соглаш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27320" indent="-412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первое письмо Коллаборатора было из ЕС, а проект зафинансирован США, то необходимо будет найти Коллаборатора из СШ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27320" indent="-412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у проекта есть только письма поддержки, то нужно будет найти Коллаборат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366920" y="5877000"/>
            <a:ext cx="7186680" cy="861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 всех зафинансированных проектов УНТЦ должен быть партнер или Коллаборатор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D00C-93ED-452F-8118-CC679FCE7F1C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331EFB-5705-4AB1-9EE9-D60697C4725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НТЦ предлагает ученым три пути финансирован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гулярные проекты, финансируются из совместного бюдже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ртнерские проекты финансируются государственными организация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ртнерские проекты финансируются коммерческими организац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 три пути имеют общие элемент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ительственное разрешение страны проек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ектный мониторинг УНТЦ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стие Западного научного или технического персонала, либо как Партнеров (доноров) либо как Коллабораторов (добровольных советников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DC5A-CD7B-4568-A5D0-A142BBED748D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5FBA27-05D5-4F8C-81C0-ACFBEF3718E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ша мисс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9160" y="16286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распростран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отвращать распространение опыта создания оружия массового поражения (ОМП) путем  поддержания научно-исследовательской деятельности, направленной на гражданские потребности ученых и инженеров Азербайджана, Грузии, Молдовы, Украины и Узбекистана, которые в  прошлом занимались разработкой оружия массового поражения и средств его достав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стойчивая переориентац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вать условия бывшим ученым и инженерам – «оборонщикам» для устойчивого развития научно-исследовательской работ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84280" y="4675320"/>
            <a:ext cx="8690040" cy="1557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обы иметь право на получение финансирования УНТЦ, по меньшей мере 30%, а желательно 50% членов предлагаемой команды проекта должны иметь в прошлом стаж работы с оборонным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закрытыми» тематикам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24160" y="6381720"/>
            <a:ext cx="698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ты о том, как соответствовать этому критерию вы найдете в слайдах «Кто может подавать заявление на получение гранта?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E8E7-D877-4EC4-8684-FD6AAFADAF5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98454E-CCB1-4BCD-957E-3E7EE1DCB34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-303120" y="6353280"/>
            <a:ext cx="693720" cy="31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8663040" y="4749840"/>
            <a:ext cx="428040" cy="725040"/>
            <a:chOff x="8663040" y="4749840"/>
            <a:chExt cx="428040" cy="725040"/>
          </a:xfrm>
        </p:grpSpPr>
        <p:sp>
          <p:nvSpPr>
            <p:cNvPr id="68" name=""/>
            <p:cNvSpPr/>
            <p:nvPr/>
          </p:nvSpPr>
          <p:spPr>
            <a:xfrm>
              <a:off x="8663040" y="4749840"/>
              <a:ext cx="194400" cy="725040"/>
            </a:xfrm>
            <a:prstGeom prst="downArrow">
              <a:avLst>
                <a:gd name="adj1" fmla="val 50000"/>
                <a:gd name="adj2" fmla="val 9324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897040" y="4749840"/>
              <a:ext cx="194040" cy="725040"/>
            </a:xfrm>
            <a:prstGeom prst="downArrow">
              <a:avLst>
                <a:gd name="adj1" fmla="val 50000"/>
                <a:gd name="adj2" fmla="val 93414"/>
              </a:avLst>
            </a:prstGeom>
            <a:solidFill>
              <a:srgbClr val="8194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2432160" y="6318360"/>
            <a:ext cx="13572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уз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инансирующие стороны и страны – реципиент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2903400" y="4749840"/>
            <a:ext cx="428400" cy="736200"/>
            <a:chOff x="2903400" y="4749840"/>
            <a:chExt cx="428400" cy="736200"/>
          </a:xfrm>
        </p:grpSpPr>
        <p:sp>
          <p:nvSpPr>
            <p:cNvPr id="73" name=""/>
            <p:cNvSpPr/>
            <p:nvPr/>
          </p:nvSpPr>
          <p:spPr>
            <a:xfrm>
              <a:off x="2903400" y="4749840"/>
              <a:ext cx="194400" cy="736200"/>
            </a:xfrm>
            <a:prstGeom prst="downArrow">
              <a:avLst>
                <a:gd name="adj1" fmla="val 50000"/>
                <a:gd name="adj2" fmla="val 9467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137400" y="4749840"/>
              <a:ext cx="194400" cy="736200"/>
            </a:xfrm>
            <a:prstGeom prst="downArrow">
              <a:avLst>
                <a:gd name="adj1" fmla="val 50000"/>
                <a:gd name="adj2" fmla="val 94676"/>
              </a:avLst>
            </a:prstGeom>
            <a:solidFill>
              <a:srgbClr val="8194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4851360" y="2462040"/>
            <a:ext cx="461880" cy="1346400"/>
          </a:xfrm>
          <a:prstGeom prst="downArrow">
            <a:avLst>
              <a:gd name="adj1" fmla="val 50000"/>
              <a:gd name="adj2" fmla="val 72876"/>
            </a:avLst>
          </a:prstGeom>
          <a:gradFill rotWithShape="0">
            <a:gsLst>
              <a:gs pos="0">
                <a:srgbClr val="8194f1"/>
              </a:gs>
              <a:gs pos="100000">
                <a:srgbClr val="8194f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560" y="3200400"/>
            <a:ext cx="463680" cy="609480"/>
          </a:xfrm>
          <a:prstGeom prst="downArrow">
            <a:avLst>
              <a:gd name="adj1" fmla="val 50000"/>
              <a:gd name="adj2" fmla="val 3286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61800" y="3801960"/>
            <a:ext cx="693720" cy="9432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01680" y="6353280"/>
            <a:ext cx="1768320" cy="31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зербайджа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259160" y="1641600"/>
            <a:ext cx="1514520" cy="8334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6176880" y="5478480"/>
            <a:ext cx="1513080" cy="8319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8120160" y="5481720"/>
            <a:ext cx="1512720" cy="8316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295200" y="5481720"/>
            <a:ext cx="1792440" cy="8301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2440080" y="5486400"/>
            <a:ext cx="1338120" cy="8319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72880" y="3813120"/>
            <a:ext cx="9399600" cy="936720"/>
          </a:xfrm>
          <a:prstGeom prst="roundRect">
            <a:avLst>
              <a:gd name="adj" fmla="val 1661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ru-RU" sz="3900" spc="-1" strike="noStrike">
                <a:solidFill>
                  <a:srgbClr val="000000"/>
                </a:solidFill>
                <a:latin typeface="Arial Narrow"/>
              </a:rPr>
              <a:t>Украинский научно-технологический центр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6719760" y="4751280"/>
            <a:ext cx="428400" cy="726840"/>
            <a:chOff x="6719760" y="4751280"/>
            <a:chExt cx="428400" cy="726840"/>
          </a:xfrm>
        </p:grpSpPr>
        <p:sp>
          <p:nvSpPr>
            <p:cNvPr id="86" name=""/>
            <p:cNvSpPr/>
            <p:nvPr/>
          </p:nvSpPr>
          <p:spPr>
            <a:xfrm>
              <a:off x="6719760" y="4751280"/>
              <a:ext cx="194760" cy="726840"/>
            </a:xfrm>
            <a:prstGeom prst="downArrow">
              <a:avLst>
                <a:gd name="adj1" fmla="val 50000"/>
                <a:gd name="adj2" fmla="val 9329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953760" y="4751280"/>
              <a:ext cx="194400" cy="726840"/>
            </a:xfrm>
            <a:prstGeom prst="downArrow">
              <a:avLst>
                <a:gd name="adj1" fmla="val 50000"/>
                <a:gd name="adj2" fmla="val 93472"/>
              </a:avLst>
            </a:prstGeom>
            <a:solidFill>
              <a:srgbClr val="8194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979560" y="4751280"/>
            <a:ext cx="426600" cy="728280"/>
            <a:chOff x="979560" y="4751280"/>
            <a:chExt cx="426600" cy="728280"/>
          </a:xfrm>
        </p:grpSpPr>
        <p:sp>
          <p:nvSpPr>
            <p:cNvPr id="89" name=""/>
            <p:cNvSpPr/>
            <p:nvPr/>
          </p:nvSpPr>
          <p:spPr>
            <a:xfrm>
              <a:off x="979560" y="4751280"/>
              <a:ext cx="193680" cy="728280"/>
            </a:xfrm>
            <a:prstGeom prst="downArrow">
              <a:avLst>
                <a:gd name="adj1" fmla="val 50000"/>
                <a:gd name="adj2" fmla="val 9400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2840" y="4751280"/>
              <a:ext cx="193320" cy="728280"/>
            </a:xfrm>
            <a:prstGeom prst="downArrow">
              <a:avLst>
                <a:gd name="adj1" fmla="val 50000"/>
                <a:gd name="adj2" fmla="val 94181"/>
              </a:avLst>
            </a:prstGeom>
            <a:solidFill>
              <a:srgbClr val="8194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8620200" y="2467080"/>
            <a:ext cx="461880" cy="1346040"/>
          </a:xfrm>
          <a:prstGeom prst="downArrow">
            <a:avLst>
              <a:gd name="adj1" fmla="val 50000"/>
              <a:gd name="adj2" fmla="val 72857"/>
            </a:avLst>
          </a:prstGeom>
          <a:gradFill rotWithShape="0">
            <a:gsLst>
              <a:gs pos="0">
                <a:srgbClr val="8194f1"/>
              </a:gs>
              <a:gs pos="100000">
                <a:srgbClr val="7486d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50760" y="2476440"/>
            <a:ext cx="463680" cy="1346400"/>
          </a:xfrm>
          <a:prstGeom prst="downArrow">
            <a:avLst>
              <a:gd name="adj1" fmla="val 50000"/>
              <a:gd name="adj2" fmla="val 72593"/>
            </a:avLst>
          </a:prstGeom>
          <a:gradFill rotWithShape="0">
            <a:gsLst>
              <a:gs pos="0">
                <a:srgbClr val="8194f1"/>
              </a:gs>
              <a:gs pos="100000">
                <a:srgbClr val="7c8ee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7"/>
          <a:stretch/>
        </p:blipFill>
        <p:spPr>
          <a:xfrm>
            <a:off x="417600" y="1628640"/>
            <a:ext cx="1514520" cy="8319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8"/>
          <a:stretch/>
        </p:blipFill>
        <p:spPr>
          <a:xfrm>
            <a:off x="8089920" y="1660680"/>
            <a:ext cx="1504800" cy="8316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219720" y="6316560"/>
            <a:ext cx="149400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ра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155080" y="6330960"/>
            <a:ext cx="1434960" cy="33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збекиста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4520" y="2438280"/>
            <a:ext cx="1768320" cy="3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на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00480" y="2465280"/>
            <a:ext cx="1768680" cy="3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904160" y="2465280"/>
            <a:ext cx="1768320" cy="3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Ш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778200" y="5486040"/>
            <a:ext cx="0" cy="82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95200" y="5489640"/>
            <a:ext cx="0" cy="83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5200" y="6313320"/>
            <a:ext cx="177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784520" y="2682360"/>
            <a:ext cx="2879280" cy="675000"/>
            <a:chOff x="1784520" y="2682360"/>
            <a:chExt cx="2879280" cy="675000"/>
          </a:xfrm>
        </p:grpSpPr>
        <p:sp>
          <p:nvSpPr>
            <p:cNvPr id="104" name=""/>
            <p:cNvSpPr/>
            <p:nvPr/>
          </p:nvSpPr>
          <p:spPr>
            <a:xfrm flipV="1">
              <a:off x="1784520" y="2681640"/>
              <a:ext cx="2879280" cy="675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98440" y="2760840"/>
              <a:ext cx="2300760" cy="47268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Неправительственные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артнер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6824520" y="3213000"/>
            <a:ext cx="463680" cy="609840"/>
          </a:xfrm>
          <a:prstGeom prst="downArrow">
            <a:avLst>
              <a:gd name="adj1" fmla="val 50000"/>
              <a:gd name="adj2" fmla="val 3288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5743440" y="2701440"/>
            <a:ext cx="2516040" cy="628920"/>
            <a:chOff x="5743440" y="2701440"/>
            <a:chExt cx="2516040" cy="628920"/>
          </a:xfrm>
        </p:grpSpPr>
        <p:sp>
          <p:nvSpPr>
            <p:cNvPr id="108" name=""/>
            <p:cNvSpPr/>
            <p:nvPr/>
          </p:nvSpPr>
          <p:spPr>
            <a:xfrm flipV="1">
              <a:off x="5743440" y="2701080"/>
              <a:ext cx="2516040" cy="628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976360" y="2811960"/>
              <a:ext cx="2010960" cy="44028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равительственные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артнер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0" name="" descr=""/>
          <p:cNvPicPr/>
          <p:nvPr/>
        </p:nvPicPr>
        <p:blipFill>
          <a:blip r:embed="rId9"/>
          <a:stretch/>
        </p:blipFill>
        <p:spPr>
          <a:xfrm>
            <a:off x="4122720" y="5495760"/>
            <a:ext cx="1655640" cy="817560"/>
          </a:xfrm>
          <a:prstGeom prst="rect">
            <a:avLst/>
          </a:prstGeom>
          <a:ln w="0">
            <a:noFill/>
          </a:ln>
        </p:spPr>
      </p:pic>
      <p:grpSp>
        <p:nvGrpSpPr>
          <p:cNvPr id="111" name=""/>
          <p:cNvGrpSpPr/>
          <p:nvPr/>
        </p:nvGrpSpPr>
        <p:grpSpPr>
          <a:xfrm>
            <a:off x="4740120" y="4751280"/>
            <a:ext cx="428400" cy="736200"/>
            <a:chOff x="4740120" y="4751280"/>
            <a:chExt cx="428400" cy="736200"/>
          </a:xfrm>
        </p:grpSpPr>
        <p:sp>
          <p:nvSpPr>
            <p:cNvPr id="112" name=""/>
            <p:cNvSpPr/>
            <p:nvPr/>
          </p:nvSpPr>
          <p:spPr>
            <a:xfrm>
              <a:off x="4740120" y="4751280"/>
              <a:ext cx="194400" cy="736200"/>
            </a:xfrm>
            <a:prstGeom prst="downArrow">
              <a:avLst>
                <a:gd name="adj1" fmla="val 50000"/>
                <a:gd name="adj2" fmla="val 9467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974120" y="4751280"/>
              <a:ext cx="194400" cy="736200"/>
            </a:xfrm>
            <a:prstGeom prst="downArrow">
              <a:avLst>
                <a:gd name="adj1" fmla="val 50000"/>
                <a:gd name="adj2" fmla="val 94676"/>
              </a:avLst>
            </a:prstGeom>
            <a:solidFill>
              <a:srgbClr val="8194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200480" y="6316560"/>
            <a:ext cx="149400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лдо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1343-E7E1-4D09-BA17-35382C16F407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286FAC-2BAA-489B-B3C0-12A0E867C87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вместные научные исследования УНТ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гулярные проект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нансируются правительствами финансирующих сторо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ртнерские проект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нансируются организациями, представляющим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ительствен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тный сект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территориях  стран – финансирующих стор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08160" y="4005360"/>
            <a:ext cx="3816360" cy="1633320"/>
          </a:xfrm>
          <a:prstGeom prst="hexagon">
            <a:avLst>
              <a:gd name="adj" fmla="val 58414"/>
              <a:gd name="vf" fmla="val 11547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авительствен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артнерск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ек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74720" y="4797360"/>
            <a:ext cx="2522520" cy="1471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гулярн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ект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5940360" y="4797360"/>
            <a:ext cx="3692520" cy="1513080"/>
            <a:chOff x="5940360" y="4797360"/>
            <a:chExt cx="3692520" cy="1513080"/>
          </a:xfrm>
        </p:grpSpPr>
        <p:sp>
          <p:nvSpPr>
            <p:cNvPr id="120" name=""/>
            <p:cNvSpPr/>
            <p:nvPr/>
          </p:nvSpPr>
          <p:spPr>
            <a:xfrm>
              <a:off x="5961240" y="4797360"/>
              <a:ext cx="3528720" cy="151308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940360" y="5157720"/>
              <a:ext cx="3692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Неправительственны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партнерские проект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4770-43A8-4373-B876-96DBBB6C2A9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E03EF8-BA54-4878-AA79-6AC1BBC5594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ри вида проектов УНТ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72520" y="1557000"/>
            <a:ext cx="91378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гулярные проек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ение о финансировании рассматривается на основании многих факторов, таких как технические качества, вклад в достижение целей о нераспространении ОМП, стратегические приоритеты финансирующих сторон, потенциал для интеграции ученых в мировое научное сообщество, коммерческий потенциал или перспективы для устойчивой самодостаточ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ложение рассматривается на конку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й основе с другими регулярными проектными предложени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ртнерские проекты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ительственны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каждого партнера свои деньги и свои прави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правительственны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е конкуренции: просто нужно найти партнера, который бы хотел профинансировать проект и получить разрешение УНТЦ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024520" y="4272120"/>
            <a:ext cx="1228680" cy="525240"/>
          </a:xfrm>
          <a:prstGeom prst="hexagon">
            <a:avLst>
              <a:gd name="adj" fmla="val 58482"/>
              <a:gd name="vf" fmla="val 11547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545240" y="5067360"/>
            <a:ext cx="1219320" cy="5223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21200" y="1417680"/>
            <a:ext cx="86364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1AB0-FCF0-4FC4-8B9B-4C4E8CA1546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A1B55A-8233-4967-8739-ECACCAD3C28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то может подавать заявление на получение грант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79160" y="1628640"/>
            <a:ext cx="922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изаци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ороны – реципиента УНТЦ представляют на рассмотрение проектные предлож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ститут, университет, конструкторское бюро, государственное предприятие, корпорация, частная компания, фонд, учреждение, или другая юридически зарегистрированная организация.</a:t>
            </a:r>
            <a:r>
              <a:rPr b="0" lang="ru-RU" sz="2000" spc="-1" strike="noStrike">
                <a:solidFill>
                  <a:srgbClr val="00cc99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сколько организаций из одной или более стран-реципиентов УНТЦ могут представить на рассмотрение «совместное предложение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анды проектов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атывают предложения под руководство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уководителей проект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получатели грантов должны являться гражданами стран-реципиентов УНТЦ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анда проекта должна состоять по меньшей мере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%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предпочтительно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%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з бывших военных учены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ые раньше занимались разработкой ОМП и средствами их достав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лодые ученые также могут принимать участие в проекте. Они</a:t>
            </a:r>
            <a:r>
              <a:rPr b="0" lang="ru-RU" sz="20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же могут формировать и руководить своими собственными командами, при соблюдении вышеуказанного условий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72880" y="6453360"/>
            <a:ext cx="129564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3031-47B4-4BBE-AA62-7217C3B5953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FF9130-9A05-4FD3-AFC7-31C313D5A8B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то может подавать заявление на получение грант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79160" y="16286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местные предложения способствуют небольшим группам ученым эффективно конкурировать в получении гранта. Они позволяют им добавить ресурсы других организаций и в результате включить в команду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таточное количество бывших военных ученых, чтобы соответствовать критериям УНТЦ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ециалистов с навыками или знаниями, необходимыми для достижения целей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32CD-E39C-4B97-A106-E35535BFC27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23BB3E-31D7-401D-8B96-AC099634283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8T10:44:12Z</dcterms:created>
  <dc:creator>Chris Stuebner</dc:creator>
  <dc:description/>
  <dc:language>en-US</dc:language>
  <cp:lastModifiedBy>Chris Stuebner</cp:lastModifiedBy>
  <dcterms:modified xsi:type="dcterms:W3CDTF">2005-03-11T14:06:21Z</dcterms:modified>
  <cp:revision>101</cp:revision>
  <dc:subject/>
  <dc:title>Grant-Writing Workshop:  Competing More Effectively</dc:title>
</cp:coreProperties>
</file>