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1A6AC-EF22-42DA-9E66-22BD3C40B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C3BEA-245E-4F0B-84EC-2C633B85D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4BADE-8A36-4657-A0B5-4CC8C9318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2090B-D92F-4BE5-BD9A-B3A8EF373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A60E5-4A80-4823-8E5D-323A1A26E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F0B88-F842-497F-B0F2-9D588188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A3B97-A207-476C-A320-347E2D404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CC6A0-5966-45CC-9138-D7CF641A6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8F95D-8406-4A06-923A-64A66954E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67BD6-E581-4864-A211-3247A2FCC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A6DA8-F588-4D2D-8AB9-4FD0F9380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592E1-7633-49D9-8F8C-2E994ABB0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ond Outline Level</a:t>
            </a:r>
            <a:endParaRPr b="1"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ird Outline Level</a:t>
            </a:r>
            <a:endParaRPr b="1"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urth Outline Level</a:t>
            </a:r>
            <a:endParaRPr b="1"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ifth Outline Level</a:t>
            </a:r>
            <a:endParaRPr b="1"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xth Outline Level</a:t>
            </a:r>
            <a:endParaRPr b="1"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venth Outline Level</a:t>
            </a:r>
            <a:endParaRPr b="1" lang="en-US" sz="3200" spc="-1" strike="noStrike">
              <a:solidFill>
                <a:srgbClr val="000000"/>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CU</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4748-2DB5-4DAE-BE60-F0AF6875B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Benefits of Keeping a Thorough Scientific Notebook</a:t>
            </a:r>
            <a:endParaRPr b="0" lang="en-US" sz="3600" spc="-1" strike="noStrike">
              <a:solidFill>
                <a:srgbClr val="000000"/>
              </a:solidFill>
              <a:latin typeface="Arial Black"/>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 detailed scientific notebook is your best evidence of the work you have done.</a:t>
            </a:r>
            <a:endParaRPr b="1"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allows you to quickly retrieve experimental concepts, designs, data, and interpretations.</a:t>
            </a:r>
            <a:endParaRPr b="1"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keeps all relevant information in once place.</a:t>
            </a:r>
            <a:endParaRPr b="1" lang="en-US" sz="3200" spc="-1" strike="noStrike">
              <a:solidFill>
                <a:srgbClr val="000000"/>
              </a:solidFill>
              <a:latin typeface="Arial Narrow"/>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t is an essential piece of evidence for patent application.</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xample Table of Figures/Tables</a:t>
            </a:r>
            <a:endParaRPr b="0" lang="en-US" sz="2800" spc="-1" strike="noStrike">
              <a:solidFill>
                <a:srgbClr val="000000"/>
              </a:solidFill>
              <a:latin typeface="Arial Black"/>
            </a:endParaRPr>
          </a:p>
        </p:txBody>
      </p:sp>
      <p:sp>
        <p:nvSpPr>
          <p:cNvPr id="60"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6</a:t>
            </a:r>
            <a:endParaRPr b="1" lang="en-US" sz="3200" spc="-1" strike="noStrike">
              <a:solidFill>
                <a:srgbClr val="000000"/>
              </a:solidFill>
              <a:latin typeface="Arial Narrow"/>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of Figures &amp; Tables</a:t>
            </a:r>
            <a:endParaRPr b="1" lang="en-US" sz="2400" spc="-1" strike="noStrike">
              <a:solidFill>
                <a:srgbClr val="000000"/>
              </a:solidFill>
              <a:latin typeface="Arial Narrow"/>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1  “Title”                14</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2  “Title”                18</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gure 1 “Title”                 9</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gure 16 “Title”             99</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22  “Title”             121</a:t>
            </a:r>
            <a:endParaRPr b="1"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gure XX “Title”            166</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ical Data Entry Page</a:t>
            </a:r>
            <a:endParaRPr b="0" lang="en-US" sz="3600" spc="-1" strike="noStrike">
              <a:solidFill>
                <a:srgbClr val="000000"/>
              </a:solidFill>
              <a:latin typeface="Arial Black"/>
            </a:endParaRPr>
          </a:p>
        </p:txBody>
      </p:sp>
      <p:sp>
        <p:nvSpPr>
          <p:cNvPr id="6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e of Entr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e of Experiment or Data Entry/Calculation</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son Making Entr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son Conducting Experiment</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ept/Relation to Overall Project</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ypothesi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perimental Design including Equipment Used.</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Recorded</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a Interpretation</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nclusion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xt logical step(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gnature of Entry Writer  and Signature of Witness</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les About Data Entry</a:t>
            </a:r>
            <a:endParaRPr b="0" lang="en-US" sz="3600" spc="-1" strike="noStrike">
              <a:solidFill>
                <a:srgbClr val="000000"/>
              </a:solidFill>
              <a:latin typeface="Arial Black"/>
            </a:endParaRPr>
          </a:p>
        </p:txBody>
      </p:sp>
      <p:sp>
        <p:nvSpPr>
          <p:cNvPr id="6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Most experiments require more than one day.  Only enter what you have for that day.  Data can be entered in a later entry.</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cience is hypothesis driven.  You should derive all experiments from attempting to test your hypotheses.</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Often you will use the same experimental procedure repetitively.  You must describe it in sufficient detail in the first entry in the notebook that it can be reproduced with only the notebook as a guide.</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ules about Data Entry (cont.)</a:t>
            </a:r>
            <a:endParaRPr b="0" lang="en-US" sz="3600" spc="-1" strike="noStrike">
              <a:solidFill>
                <a:srgbClr val="000000"/>
              </a:solidFill>
              <a:latin typeface="Arial Black"/>
            </a:endParaRPr>
          </a:p>
        </p:txBody>
      </p:sp>
      <p:sp>
        <p:nvSpPr>
          <p:cNvPr id="6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data is gathered and interpreted one of more days after the experiment is started, you must begin a new entry.  At the top of the data entry page link to previous entry by using “Continued from page XX”.</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your interpretation of data avoid unwarranted speculation.  Your interpretations and conclusions should be made in the context of the hypothesis.</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plain how these results have shaped new ideas for experiments or or hypotheses.  </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hen you record the experimental design needed to test these new ideas, link to previous entry by including “Experiment based on results from page XX”.</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Data Entry Page</a:t>
            </a:r>
            <a:endParaRPr b="0" lang="en-US" sz="3600" spc="-1" strike="noStrike">
              <a:solidFill>
                <a:srgbClr val="000000"/>
              </a:solidFill>
              <a:latin typeface="Arial Black"/>
            </a:endParaRPr>
          </a:p>
        </p:txBody>
      </p:sp>
      <p:sp>
        <p:nvSpPr>
          <p:cNvPr id="68" name="PlaceHolder 2"/>
          <p:cNvSpPr>
            <a:spLocks noGrp="1"/>
          </p:cNvSpPr>
          <p:nvPr>
            <p:ph/>
          </p:nvPr>
        </p:nvSpPr>
        <p:spPr>
          <a:xfrm>
            <a:off x="2743200" y="914040"/>
            <a:ext cx="3733920" cy="518148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X</a:t>
            </a:r>
            <a:endParaRPr b="1" lang="en-US" sz="3200" spc="-1" strike="noStrike">
              <a:solidFill>
                <a:srgbClr val="000000"/>
              </a:solidFill>
              <a:latin typeface="Arial Narrow"/>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itle of Experiment</a:t>
            </a:r>
            <a:endParaRPr b="1" lang="en-US" sz="2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te of Experiment      Date of Entry</a:t>
            </a: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riment conducted by ________</a:t>
            </a: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cord Entered by:  ______________</a:t>
            </a: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ncept/Idea and Relation to Project:</a:t>
            </a:r>
            <a:endParaRPr b="1" lang="en-US" sz="18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xxxxxxxxxxxxxxxxxxxxxxxxxxxxxx</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xxxxxxxxxxxxxxxxxxxxxxxxxxxxxx</a:t>
            </a:r>
            <a:endParaRPr b="1" lang="en-US" sz="16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Hypothesis: </a:t>
            </a:r>
            <a:r>
              <a:rPr b="1" lang="en-US" sz="1600" spc="-1" strike="noStrike">
                <a:solidFill>
                  <a:srgbClr val="000000"/>
                </a:solidFill>
                <a:latin typeface="Arial Narrow"/>
              </a:rPr>
              <a:t>xxxxxxxxxxxxxxxxxxxxx</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xxxxxxxxxxxxxxxxxxxxxxxxxxxxxxxxxxxxx</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ign. of Recorder               Sign. Of Witness</a:t>
            </a:r>
            <a:endParaRPr b="1" lang="en-US" sz="1600" spc="-1" strike="noStrike">
              <a:solidFill>
                <a:srgbClr val="000000"/>
              </a:solidFill>
              <a:latin typeface="Arial Narrow"/>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Data Entry (cont.)</a:t>
            </a:r>
            <a:endParaRPr b="0" lang="en-US" sz="3600" spc="-1" strike="noStrike">
              <a:solidFill>
                <a:srgbClr val="000000"/>
              </a:solidFill>
              <a:latin typeface="Arial Black"/>
            </a:endParaRPr>
          </a:p>
        </p:txBody>
      </p:sp>
      <p:sp>
        <p:nvSpPr>
          <p:cNvPr id="70"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X+1</a:t>
            </a:r>
            <a:endParaRPr b="1" lang="en-US" sz="3200" spc="-1" strike="noStrike">
              <a:solidFill>
                <a:srgbClr val="000000"/>
              </a:solidFill>
              <a:latin typeface="Arial Narrow"/>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xperimental Design and Parameters:</a:t>
            </a:r>
            <a:endParaRPr b="1" lang="en-US" sz="1800" spc="-1" strike="noStrike">
              <a:solidFill>
                <a:srgbClr val="000000"/>
              </a:solidFill>
              <a:latin typeface="Arial Narrow"/>
            </a:endParaRPr>
          </a:p>
          <a:p>
            <a:pPr marL="609480" indent="-60948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XXXXXX</a:t>
            </a:r>
            <a:endParaRPr b="1" lang="en-US" sz="1800" spc="-1" strike="noStrike">
              <a:solidFill>
                <a:srgbClr val="000000"/>
              </a:solidFill>
              <a:latin typeface="Arial Narrow"/>
            </a:endParaRPr>
          </a:p>
          <a:p>
            <a:pPr marL="609480" indent="-60948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XXXXXX</a:t>
            </a:r>
            <a:endParaRPr b="1" lang="en-US" sz="1800" spc="-1" strike="noStrike">
              <a:solidFill>
                <a:srgbClr val="000000"/>
              </a:solidFill>
              <a:latin typeface="Arial Narrow"/>
            </a:endParaRPr>
          </a:p>
          <a:p>
            <a:pPr marL="609480" indent="-609480">
              <a:spcBef>
                <a:spcPts val="451"/>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XXXXXXX</a:t>
            </a:r>
            <a:endParaRPr b="1" lang="en-US" sz="18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ults:</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ble, Figure, or raw data if available at this date.</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terpretation: xxxxxxxxxx</a:t>
            </a:r>
            <a:endParaRPr b="1" lang="en-US" sz="24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ign. of Recorder        Sign. of Witnes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Data Entry (cont.)</a:t>
            </a:r>
            <a:endParaRPr b="0" lang="en-US" sz="3600" spc="-1" strike="noStrike">
              <a:solidFill>
                <a:srgbClr val="000000"/>
              </a:solidFill>
              <a:latin typeface="Arial Black"/>
            </a:endParaRPr>
          </a:p>
        </p:txBody>
      </p:sp>
      <p:sp>
        <p:nvSpPr>
          <p:cNvPr id="72"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X+2</a:t>
            </a:r>
            <a:endParaRPr b="1" lang="en-US" sz="3200" spc="-1" strike="noStrike">
              <a:solidFill>
                <a:srgbClr val="000000"/>
              </a:solidFill>
              <a:latin typeface="Arial Narrow"/>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w Ideas and Future Experiments:</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xxxxxxxxxxxxxxxxxxxxx</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xxxxxxxxxxxxxxxxxxxxx</a:t>
            </a:r>
            <a:endParaRPr b="1" lang="en-US" sz="24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ign. of Recorder        Sign. of Witnes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Later Data Entry Page</a:t>
            </a:r>
            <a:endParaRPr b="0" lang="en-US" sz="3200" spc="-1" strike="noStrike">
              <a:solidFill>
                <a:srgbClr val="000000"/>
              </a:solidFill>
              <a:latin typeface="Arial Black"/>
            </a:endParaRPr>
          </a:p>
        </p:txBody>
      </p:sp>
      <p:sp>
        <p:nvSpPr>
          <p:cNvPr id="74"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Y</a:t>
            </a:r>
            <a:endParaRPr b="1" lang="en-US" sz="32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Continued from page xx.</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Results:  Enter as table, figure or other form.</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Conclusions:</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New Ideas or Experiments:</a:t>
            </a:r>
            <a:endParaRPr b="1" lang="en-US" sz="2400" spc="-1" strike="noStrike">
              <a:solidFill>
                <a:srgbClr val="000000"/>
              </a:solidFill>
              <a:latin typeface="Arial Narrow"/>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Note – Follow all other conventions for entering data pages}</a:t>
            </a:r>
            <a:endParaRPr b="1" lang="en-US" sz="18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Narrow"/>
              </a:rPr>
              <a:t>Sign. of Recorder        Sign. of Witness</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minders on Log Entries</a:t>
            </a:r>
            <a:endParaRPr b="0" lang="en-US" sz="3600" spc="-1" strike="noStrike">
              <a:solidFill>
                <a:srgbClr val="000000"/>
              </a:solidFill>
              <a:latin typeface="Arial Black"/>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ake entries in your lab book EVERY DAY.</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ach page should be signed and witnessed by another investigator, preferably not a direct subordinate or supervisor.</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e greater the detail the better.</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ever skip pages to save room for data.  Enter information chronologically.</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Indices</a:t>
            </a:r>
            <a:endParaRPr b="0" lang="en-US" sz="3600" spc="-1" strike="noStrike">
              <a:solidFill>
                <a:srgbClr val="000000"/>
              </a:solidFill>
              <a:latin typeface="Arial Black"/>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Experimental Procedur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Major Sub-project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Key Data and Conclusions</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racteristics of a Reliable Scientific Notebook</a:t>
            </a:r>
            <a:endParaRPr b="0" lang="en-US" sz="3600" spc="-1" strike="noStrike">
              <a:solidFill>
                <a:srgbClr val="000000"/>
              </a:solidFill>
              <a:latin typeface="Arial Black"/>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 notebook should be a bound book with non-removable pages.</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t should be made of acid-free paper to prolong its life.</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ges should be pre-printed with consecutive numbers.</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Writing should be limited to one side of a sheet.  The facing sheet can be used to hold figures, tables, or explanations added after the fact.</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dices</a:t>
            </a:r>
            <a:endParaRPr b="0" lang="en-US" sz="3600" spc="-1" strike="noStrike">
              <a:solidFill>
                <a:srgbClr val="000000"/>
              </a:solidFill>
              <a:latin typeface="Arial Black"/>
            </a:endParaRPr>
          </a:p>
        </p:txBody>
      </p:sp>
      <p:sp>
        <p:nvSpPr>
          <p:cNvPr id="8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Experimental Procedures -  </a:t>
            </a:r>
            <a:r>
              <a:rPr b="1" lang="en-US" sz="2400" spc="-1" strike="noStrike">
                <a:solidFill>
                  <a:srgbClr val="000000"/>
                </a:solidFill>
                <a:latin typeface="Arial Narrow"/>
              </a:rPr>
              <a:t>This will refer you to the detailed description for each major experimental method you design.  Will allow you to find methods quickl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 of Sub-Projects  -  </a:t>
            </a:r>
            <a:r>
              <a:rPr b="1" lang="en-US" sz="2400" spc="-1" strike="noStrike">
                <a:solidFill>
                  <a:srgbClr val="000000"/>
                </a:solidFill>
                <a:latin typeface="Arial Narrow"/>
              </a:rPr>
              <a:t>You may conduct several types of projects, all related to the main project at once.  This index will allow you to easily find those sets of experiments and data that are natural continuations of each other.</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3200" spc="-1" strike="noStrike">
                <a:solidFill>
                  <a:srgbClr val="000000"/>
                </a:solidFill>
                <a:latin typeface="Arial Narrow"/>
              </a:rPr>
              <a:t>Index of Key Data and Conclusions -  </a:t>
            </a:r>
            <a:r>
              <a:rPr b="1" lang="en-US" sz="2400" spc="-1" strike="noStrike">
                <a:solidFill>
                  <a:srgbClr val="000000"/>
                </a:solidFill>
                <a:latin typeface="Arial Narrow"/>
              </a:rPr>
              <a:t>This index will help you find those critical bits of information that shape the direction of your research.</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240"/>
            <a:ext cx="8610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xample of Experimental Methods Index Page</a:t>
            </a:r>
            <a:endParaRPr b="0" lang="en-US" sz="2400" spc="-1" strike="noStrike">
              <a:solidFill>
                <a:srgbClr val="000000"/>
              </a:solidFill>
              <a:latin typeface="Arial Black"/>
            </a:endParaRPr>
          </a:p>
        </p:txBody>
      </p:sp>
      <p:sp>
        <p:nvSpPr>
          <p:cNvPr id="82"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Z</a:t>
            </a:r>
            <a:endParaRPr b="1" lang="en-US" sz="32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ex of Experm.  Methods</a:t>
            </a:r>
            <a:endParaRPr b="1" lang="en-US" sz="2400" spc="-1" strike="noStrike">
              <a:solidFill>
                <a:srgbClr val="000000"/>
              </a:solidFill>
              <a:latin typeface="Arial Narrow"/>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16</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33</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41</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ethod for ______         188</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of Sub-Project Index</a:t>
            </a:r>
            <a:endParaRPr b="0" lang="en-US" sz="3200" spc="-1" strike="noStrike">
              <a:solidFill>
                <a:srgbClr val="000000"/>
              </a:solidFill>
              <a:latin typeface="Arial Black"/>
            </a:endParaRPr>
          </a:p>
        </p:txBody>
      </p:sp>
      <p:sp>
        <p:nvSpPr>
          <p:cNvPr id="84"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Z</a:t>
            </a:r>
            <a:endParaRPr b="1" lang="en-US" sz="3200" spc="-1" strike="noStrike">
              <a:solidFill>
                <a:srgbClr val="000000"/>
              </a:solidFill>
              <a:latin typeface="Arial Narrow"/>
            </a:endParaRPr>
          </a:p>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ex of Sub-Projects</a:t>
            </a: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ies for Protein Purification of Enzyme X.</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7-9, 21-22, 33-37, 182-185, 190-191</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ies for Wind Turbine Efficiency</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0-14, 44-47, 55-60, 91-99, 155-160  </a:t>
            </a:r>
            <a:endParaRPr b="1" lang="en-US" sz="20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xample of Major Concept Index</a:t>
            </a:r>
            <a:endParaRPr b="0" lang="en-US" sz="3200" spc="-1" strike="noStrike">
              <a:solidFill>
                <a:srgbClr val="000000"/>
              </a:solidFill>
              <a:latin typeface="Arial Black"/>
            </a:endParaRPr>
          </a:p>
        </p:txBody>
      </p:sp>
      <p:sp>
        <p:nvSpPr>
          <p:cNvPr id="86"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6094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Z</a:t>
            </a:r>
            <a:endParaRPr b="1" lang="en-US" sz="3200" spc="-1" strike="noStrike">
              <a:solidFill>
                <a:srgbClr val="000000"/>
              </a:solidFill>
              <a:latin typeface="Arial Narrow"/>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ndex of Major Concepts and Breakthroughs</a:t>
            </a:r>
            <a:endParaRPr b="1" lang="en-US" sz="2800" spc="-1" strike="noStrike">
              <a:solidFill>
                <a:srgbClr val="000000"/>
              </a:solidFill>
              <a:latin typeface="Arial Narrow"/>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Key to Increased Cell Efficiency  18</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mprovement in Method X            73</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ffect of Mg++                             133</a:t>
            </a:r>
            <a:endParaRPr b="1" lang="en-US" sz="2000" spc="-1" strike="noStrike">
              <a:solidFill>
                <a:srgbClr val="000000"/>
              </a:solidFill>
              <a:latin typeface="Arial Narrow"/>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ritical Energy Threshold          145</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en you Fill a Notebook</a:t>
            </a:r>
            <a:endParaRPr b="0" lang="en-US" sz="3600" spc="-1" strike="noStrike">
              <a:solidFill>
                <a:srgbClr val="000000"/>
              </a:solidFill>
              <a:latin typeface="Arial Black"/>
            </a:endParaRPr>
          </a:p>
        </p:txBody>
      </p:sp>
      <p:sp>
        <p:nvSpPr>
          <p:cNvPr id="8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tify your Project Leader that you need a new lab notebook.</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ave him/her indicate on the cover page the date completed and received.</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need the previous notebook as a reference for future experiments, you should sign it out from the Project Leader.</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egin a new note book as previously described, but on the cover page indicate Notebook # 2 or whatever number is appropriate.</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write common methods the first time recorded in a new notebook.  This will save looking back through previous books to find a method.</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Good Notebook Habits</a:t>
            </a:r>
            <a:endParaRPr b="0" lang="en-US" sz="3600" spc="-1" strike="noStrike">
              <a:solidFill>
                <a:srgbClr val="000000"/>
              </a:solidFill>
              <a:latin typeface="Arial Black"/>
            </a:endParaRPr>
          </a:p>
        </p:txBody>
      </p:sp>
      <p:sp>
        <p:nvSpPr>
          <p:cNvPr id="9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erve the last few minutes of each work day to make your notebook entry.  Don’t wait a few days, you will forget critical information.</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make an error in an entry, strike through it with a single line so that the old entry is readable.  Often a first idea proves important.  If erased it cannot be recovered.</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need to add additional ideas after the fact, use the facing page and add the date of the entry.</a:t>
            </a:r>
            <a:endParaRPr b="1" lang="en-US" sz="2400" spc="-1" strike="noStrike">
              <a:solidFill>
                <a:srgbClr val="000000"/>
              </a:solidFill>
              <a:latin typeface="Arial Narrow"/>
            </a:endParaRPr>
          </a:p>
          <a:p>
            <a:pPr marL="343080" indent="-34308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very detail, no matter how insignificant it seems at the time may be critical.  Enter your experiments that don’t work as well as those that do.  These may be revealing later.</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 -  Why?</a:t>
            </a:r>
            <a:endParaRPr b="0" lang="en-US" sz="3600" spc="-1" strike="noStrike">
              <a:solidFill>
                <a:srgbClr val="000000"/>
              </a:solidFill>
              <a:latin typeface="Arial Black"/>
            </a:endParaRPr>
          </a:p>
        </p:txBody>
      </p:sp>
      <p:sp>
        <p:nvSpPr>
          <p:cNvPr id="9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ientists can only depend on data they record and can reproduce.  Poor notebook habits lead to poor result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cording the experiments, their data and results, and their interpretations is just as important as conducting the experiments.</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You and your Project Leader are accountable to STCU for and the supporting governments for the funds you receive.  Detailed notebooks are essential for accountability.</a:t>
            </a:r>
            <a:endParaRPr b="1" lang="en-US" sz="2400" spc="-1" strike="noStrike">
              <a:solidFill>
                <a:srgbClr val="000000"/>
              </a:solidFill>
              <a:latin typeface="Arial Narrow"/>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atent applications require detailed documentation of when and how discoveries, processes, or inventions are developed.  It is nearly impossible to obtain patents without detailed notebooks following a standard format as described here.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per Tools for Recording Data</a:t>
            </a:r>
            <a:endParaRPr b="0" lang="en-US" sz="3600" spc="-1" strike="noStrike">
              <a:solidFill>
                <a:srgbClr val="000000"/>
              </a:solidFill>
              <a:latin typeface="Arial Black"/>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ll entries should be recorded in indelible ink.</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s, figures, and photographs, should either be drawn into the text page, or attached to a subsequent page or facing page with acid-free glue or tape.</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ntries should be made legibly.</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arts of the Laboratory Notebook</a:t>
            </a:r>
            <a:endParaRPr b="0" lang="en-US" sz="3600" spc="-1" strike="noStrike">
              <a:solidFill>
                <a:srgbClr val="000000"/>
              </a:solidFill>
              <a:latin typeface="Arial Black"/>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ver Page</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 of Content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 of Figures and Tabl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a Pag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dex</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ver Page</a:t>
            </a:r>
            <a:endParaRPr b="0" lang="en-US" sz="3600" spc="-1" strike="noStrike">
              <a:solidFill>
                <a:srgbClr val="000000"/>
              </a:solidFill>
              <a:latin typeface="Arial Black"/>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oject Title</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b-section of Project Addressed in Notebook.</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Primary Investigator for Notebook</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e of Start of Experimental Entri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ate for End of Experimental Entries</a:t>
            </a:r>
            <a:endParaRPr b="1" lang="en-US" sz="3200" spc="-1" strike="noStrike">
              <a:solidFill>
                <a:srgbClr val="000000"/>
              </a:solidFill>
              <a:latin typeface="Arial Narrow"/>
            </a:endParaRPr>
          </a:p>
          <a:p>
            <a:pPr marL="343080" indent="-343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Number of Notebook in Sequential Series</a:t>
            </a:r>
            <a:endParaRPr b="1"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Cover Page</a:t>
            </a:r>
            <a:endParaRPr b="0" lang="en-US" sz="3600" spc="-1" strike="noStrike">
              <a:solidFill>
                <a:srgbClr val="000000"/>
              </a:solidFill>
              <a:latin typeface="Arial Black"/>
            </a:endParaRPr>
          </a:p>
        </p:txBody>
      </p:sp>
      <p:sp>
        <p:nvSpPr>
          <p:cNvPr id="52"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1</a:t>
            </a:r>
            <a:endParaRPr b="1" lang="en-US" sz="32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earch Project Title</a:t>
            </a: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dividual Portion of the Research Project</a:t>
            </a: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vestigator’s Name</a:t>
            </a:r>
            <a:endParaRPr b="1" lang="en-US" sz="2400" spc="-1" strike="noStrike">
              <a:solidFill>
                <a:srgbClr val="000000"/>
              </a:solidFill>
              <a:latin typeface="Arial Narrow"/>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e of First Entry  XX/XX/XXXX</a:t>
            </a:r>
            <a:endParaRPr b="1"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e of Final Entry XX/XX/XXXX</a:t>
            </a:r>
            <a:endParaRPr b="1"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tebook 1 of _____</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ble of Contents</a:t>
            </a:r>
            <a:endParaRPr b="0" lang="en-US" sz="3600" spc="-1" strike="noStrike">
              <a:solidFill>
                <a:srgbClr val="000000"/>
              </a:solidFill>
              <a:latin typeface="Arial Black"/>
            </a:endParaRPr>
          </a:p>
        </p:txBody>
      </p:sp>
      <p:sp>
        <p:nvSpPr>
          <p:cNvPr id="5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erve 2-3 pages at the front of the notebook for a table of contents.  </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s you finish an entry, record the title for that entry in the table of contents and indicate to the right side of the page the pre-printed pages containing the entry.</a:t>
            </a:r>
            <a:endParaRPr b="1" lang="en-US" sz="2800" spc="-1" strike="noStrike">
              <a:solidFill>
                <a:srgbClr val="000000"/>
              </a:solidFill>
              <a:latin typeface="Arial Narrow"/>
            </a:endParaRPr>
          </a:p>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Even if you are recording more than one set of experiments in a single notebook, record the table of contents entries in the order conducted, do not attempt to divide the books into sections for sub-projects.</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Table of Contents</a:t>
            </a:r>
            <a:endParaRPr b="0" lang="en-US" sz="3600" spc="-1" strike="noStrike">
              <a:solidFill>
                <a:srgbClr val="000000"/>
              </a:solidFill>
              <a:latin typeface="Arial Black"/>
            </a:endParaRPr>
          </a:p>
        </p:txBody>
      </p:sp>
      <p:sp>
        <p:nvSpPr>
          <p:cNvPr id="56" name="PlaceHolder 2"/>
          <p:cNvSpPr>
            <a:spLocks noGrp="1"/>
          </p:cNvSpPr>
          <p:nvPr>
            <p:ph/>
          </p:nvPr>
        </p:nvSpPr>
        <p:spPr>
          <a:xfrm>
            <a:off x="2743200" y="1066680"/>
            <a:ext cx="3733920" cy="5029200"/>
          </a:xfrm>
          <a:prstGeom prst="rect">
            <a:avLst/>
          </a:prstGeom>
          <a:noFill/>
          <a:ln w="38160">
            <a:solidFill>
              <a:srgbClr val="000000"/>
            </a:solidFill>
            <a:miter/>
          </a:ln>
        </p:spPr>
        <p:txBody>
          <a:bodyPr lIns="90000" rIns="90000" tIns="46800" bIns="46800"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2</a:t>
            </a:r>
            <a:endParaRPr b="1" lang="en-US" sz="3200" spc="-1" strike="noStrike">
              <a:solidFill>
                <a:srgbClr val="000000"/>
              </a:solidFill>
              <a:latin typeface="Arial Narrow"/>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ble of Contents</a:t>
            </a:r>
            <a:endParaRPr b="1" lang="en-US" sz="32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ver Page                                   1</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ble of Contents                    2-5</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able of Figures and Tables   6-8</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1                                       9-11</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2                                     11-12</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3                                     13-16</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 . . </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try Last                              189-191</a:t>
            </a:r>
            <a:endParaRPr b="1" lang="en-US" sz="2000" spc="-1" strike="noStrike">
              <a:solidFill>
                <a:srgbClr val="000000"/>
              </a:solidFill>
              <a:latin typeface="Arial Narrow"/>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dex                                      192-200</a:t>
            </a:r>
            <a:endParaRPr b="1"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able of Figures and Tables</a:t>
            </a:r>
            <a:endParaRPr b="0" lang="en-US" sz="3600" spc="-1" strike="noStrike">
              <a:solidFill>
                <a:srgbClr val="000000"/>
              </a:solidFill>
              <a:latin typeface="Arial Black"/>
            </a:endParaRPr>
          </a:p>
        </p:txBody>
      </p:sp>
      <p:sp>
        <p:nvSpPr>
          <p:cNvPr id="5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ables and figures are an important way to consolidate a great deal of information into a small amount of space.  </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Following the Table of Contents, reserve a 3-4 pages for a Table of Figures and Tables.</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s you enter a figure or a table, record its title in this table and indicate the page number to the right side of the entry.</a:t>
            </a:r>
            <a:endParaRPr b="1" lang="en-US" sz="2800" spc="-1" strike="noStrike">
              <a:solidFill>
                <a:srgbClr val="000000"/>
              </a:solidFill>
              <a:latin typeface="Arial Narrow"/>
            </a:endParaRPr>
          </a:p>
          <a:p>
            <a:pPr marL="343080" indent="-34308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is will become a quick and handy reference section for important data.</a:t>
            </a:r>
            <a:r>
              <a:rPr b="1" lang="en-US" sz="2800" spc="-1" strike="noStrike">
                <a:solidFill>
                  <a:srgbClr val="000000"/>
                </a:solidFill>
                <a:latin typeface="Arial Narrow"/>
              </a:rPr>
              <a:t>	</a:t>
            </a:r>
            <a:endParaRPr b="1"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08:24:40Z</dcterms:created>
  <dc:creator>VC/VO</dc:creator>
  <dc:description/>
  <dc:language>en-US</dc:language>
  <cp:lastModifiedBy>VC/VO</cp:lastModifiedBy>
  <dcterms:modified xsi:type="dcterms:W3CDTF">2002-02-25T11:18:48Z</dcterms:modified>
  <cp:revision>3</cp:revision>
  <dc:subject/>
  <dc:title>The Importance of Scientific Record-Keeping</dc:title>
</cp:coreProperties>
</file>