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27.xml" ContentType="application/vnd.openxmlformats-officedocument.presentationml.comments+xml"/>
  <Override PartName="/ppt/comments/comment3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9925050" cy="6796088"/>
</p:presentation>
</file>

<file path=ppt/commentAuthors.xml><?xml version="1.0" encoding="utf-8"?>
<p:cmAuthorLst xmlns:p="http://schemas.openxmlformats.org/presentationml/2006/main">
  <p:cmAuthor id="0" name="Chris Stuebner" initials="C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27.xml><?xml version="1.0" encoding="utf-8"?>
<p:cmLst xmlns:p="http://schemas.openxmlformats.org/presentationml/2006/main">
  <p:cm authorId="0" dt="2004-12-28T15:22:26.233000000" idx="1">
    <p:pos x="10" y="10"/>
    <p:text>Note changes:  </p:text>
  </p:cm>
</p:cmLst>
</file>

<file path=ppt/comments/comment33.xml><?xml version="1.0" encoding="utf-8"?>
<p:cmLst xmlns:p="http://schemas.openxmlformats.org/presentationml/2006/main">
  <p:cm authorId="0" dt="2004-12-28T15:34:28.682000000" idx="2">
    <p:pos x="10" y="10"/>
    <p:text>see change in English tex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ECD8-488D-4004-9DD5-E4989D9EC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Supplemental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workshops and con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making services for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missions and trade sh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up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Make Use of STC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ate, 17 Government Partners, includ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URATOM Association,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Planck Institute of Plasmaphys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 Energy/Initiatives for Proliferation Prevention (IP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N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itutes of Health/National Cancer 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AF European Office of Aerospace Research and Develop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W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Protection Ag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1A46-5F6D-4DCD-9F58-886991AD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-Governmental Partners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Key to Self-Sustain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ate, over 90 Non-Government Partners, inclu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+S Electron Technologies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ифорния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 Corporation (Delaware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ont (Minnesot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Electric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CL Chalk River Laboratories (Ontario, Can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fina (Paris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in (Clermont-Ferrand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Proces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-L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ffort required: clearly defined form and application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competition for funding:  many applicants meet selection crite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ort required, to identify program/s and fill out varied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competitors: each program interests smaller group of applicants with focused research and development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effort required, to search for potential commercial spo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direct competitor for this source of fu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CU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channels assistance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, tax-free payments (grants) to researchers’ personal bank acc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clearance as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urement of equipment and materials free of duties and ta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ching in grant-writing and proje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helps donor countries achieve their policy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peaceful, civilian re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 and security 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project management, including technical and financial moni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Recipient Parties’ R&amp;D communities and cap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ust assure donors that monies are well-spent, towards aim of non-proliferation of WMD scientifi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roject can be audited at donor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rants must be traceable to real scientists, doing real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, salaries are of more importance than equi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osed purchases must clearly support ability of people t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anagement Appro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designates staff to monitor each regular and partner pro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Coordin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Accoun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curement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taff visit each project on a regular, schedul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six months of operative commencement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year there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quently if problems encou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Project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eeks to help integrate former weapons scientists into the broader international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*must* invite Western colleagues to take an interest in their project’s progr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“Collaborator” is *required* for all regular projec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conferences &amp; to meet Western colleagues is encour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“Collaborator”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or technical expert from the territory of the Financing Party wh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s as an un-paid advisor in a regular STCU pro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dges, in writing, to assist STCU grant recipi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ree of involvement may vary; minimum expec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he project work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 the technical merits and feasibility of tha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that evaluation with the scientific team and financing Par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 regularly with the project team for lifetime of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 affiliation may 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porate or private-sector may be more useful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c or government lab affiliation, so far, more ty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What Collaborators do 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ior to funding decis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ovide recommendatios during the development of the draft project proposal and work plan</a:t>
            </a:r>
            <a:r>
              <a:rPr b="0" i="1" lang="en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Review and assess work plan subsequent to HGC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.   Consid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Quality of science proposed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Feasibility of approach and time lin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Adequacy of equipment/material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During consideration of the project proposal, </a:t>
            </a: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communicate to the project team and to the financing Parties the results of this assessment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, expressed a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of the work plan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Dis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reasons)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Limited 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a description of specific concern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mum expectations in blue in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Project fun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mmunicate regularly by e-mail with CIS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view all quarterly project reports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project team adjust technical and commercial language and terminology to an accepted level for a North American or European reader/revie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technical information or assistance, including mutual review of technical rep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rovide guidance or recommendation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appropriate, to enable attainment of project goals as set out in the work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awareness of developments in applied science and technology that relate to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cruit other foreign collaborators to assist t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mmunicate results of related on-going studies in West, particularly at collaborator’s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Share scarce materials, samples, and/or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project team select cost-advantageous research tools, instrumentation, and necessary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or parallel investig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interpret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erify results using independent methods and/or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i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m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help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upport We Pro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regula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artne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does STC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I pick a path forwa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seminars, workshops, and cons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ost scientists from project team and/or allow use of facilities at collaborator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isit STCU scientists’ project s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(recommended: at least once, but not more than three times over lifetime of STCU projec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view and edit draft final report, to ensure it clearly reflects results of the research conduc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publication and/or dissemin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with commercializ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ethods have worked for other STCU scient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Internet for those doing science in same fie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 correspondence with authors of publications and conference repor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while attending international conferences and exhibi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lt with STCU Partnership Group, Project Coordinators, and other staff members experienced in establishing cooperation with international instit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ing a potential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STCU scientists recomm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r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, briefly, your experience in the fie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the collaborator might find interesting about your proposed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if he knows anyone who might be interested in serving as an unpaid advisor to your projec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he says, ‘I might be interested…”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ways that collaborators typically hel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introductory material on STC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ore detailed project information (with a non-disclosure agreement in place, if project is commercially-sensitiv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estern Collaborat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with highly-skilled scientists and engineers from Georgia, Uzbekistan and Azerbaija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ion in experiments at unique installations and facilit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cipated results arising from STCU Projects, (with protection of the Intellectual Property Rights of project particip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focus and efficiency of Research and Development activity through information exchange and consultatio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stake in commercialization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 Project Particip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ment in the design and execution of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rance that projects do not duplicate existing efforts in the same field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stance in identifying appropriate sources of special materials and equipment to be used in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quisition of new skills, experience and contacts with related research centers in other countr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ance on how best to internationally disseminate the results of research and developm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cooperation in science and technology from experience gained during project implement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s of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tter of Support 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s an relatively </a:t>
            </a:r>
            <a:r>
              <a:rPr b="1" lang="en" sz="12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 expression of approval by a Western scientist regar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scientist, project team or institut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direction of current or proposed research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positive past experiences working with the team;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value of proposed research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Letter of Support differs from a Pledge of Collaboration by virtue of two eleme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tain a specific assessment of the strength of the current proposal and/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vey a clear commitment to future participation or engagement in that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TCU policy requi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One Letter of Collaboration or two Letters of Support before a regular project proposal can leave STCU for review by the Financ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original Letter of Collaboration was from a scientist in the EU, and the project is funded by the U.S., they will need to locate a U.S.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project had only Letters of Support, they will now need to find a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ve a Partner or a Collaborato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offers scientists three paths to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rojects funded from a shared pot of f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Government 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commercial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paths share common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with Western scientific or technical personnel, either as Partners (donors) or as Collaborators (volunteer advis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prolif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the spread of Weapons of Mass Destruction (WMD) expertise by suppor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means of deli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stainable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opportunities for former WMD scientists and engineers to develop sustainable civilian research work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Collaborative Scientific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governments of Financing Pa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vate-sect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s in the territories of the Financing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ree types of STCU Pro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lected for funding based on multiple considerations, which may include technical merit, contribution to non-proliferation aims, policy priorities, potential for integration of scientists into global science community, commercial potential or prospect for sustainab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posal competes with all other regular project propos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e pots of money, separate ru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n-Governmental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mpetition; just need to locate willing partner to finance project &amp; receive STCU approv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F7F-4DD9-48F8-8EA8-C6788CEF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558-117E-4993-97B2-9CD29100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9CC-A9E0-4EA9-B109-8068BB62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40B-130A-4A31-A0FC-08722C0F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D07-9824-496B-A4C9-7CE91509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304-27CA-4C75-8088-249FC001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0A6-1DF2-4407-B596-F438D583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8D2-9216-4254-B030-89AA1B59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030-102A-4A11-8A1D-6A433E2E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35E-0C36-4B71-B097-2783DAC1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3B1-FA35-4D56-BE6D-77203412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9C1-9DC8-4C3F-B9E5-E33B08D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DBA7-59D6-4D82-800D-27DA7C0BA83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C002-B0F7-4CA8-933C-7040F77E6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0880" y="549360"/>
            <a:ext cx="31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КРАИНСКИЙ НАУЧНО-ТЕХНОЛОГИЧЕСКИЙ ЦЕН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полнительные виды деятельности УНТ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ентная поддерж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ты на зарубежные командировки для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конференций и семин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н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взаимных интересов между Западными партнерами и учеными стран УНТЦ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нес миссии и участие в выстав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рнизация Интерн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2160" y="5229360"/>
            <a:ext cx="784548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вшие военные ученые, которые не получили финансирование своих проектов от УНТЦ, могут участвовать в этих программ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AB8-FCFA-44F0-AEAD-82C4B0FC01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D7BD8-C89D-40C3-9250-23547614EC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9120" y="6453360"/>
            <a:ext cx="8334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ование проектов УНТЦ </a:t>
            </a:r>
            <a:br>
              <a:rPr sz="3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ределение средств на текущие проект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е. без учета выданных грантов на проектную деятельность в буду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716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rot="16200000">
            <a:off x="-1267560" y="4118040"/>
            <a:ext cx="34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нансирование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48520" y="5084640"/>
            <a:ext cx="151308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84880" y="2371680"/>
            <a:ext cx="505080" cy="1488960"/>
          </a:xfrm>
          <a:custGeom>
            <a:avLst/>
            <a:gdLst>
              <a:gd name="textAreaLeft" fmla="*/ 322920 w 505080"/>
              <a:gd name="textAreaRight" fmla="*/ 505440 w 505080"/>
              <a:gd name="textAreaTop" fmla="*/ 38520 h 1488960"/>
              <a:gd name="textAreaBottom" fmla="*/ 145044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2060640"/>
            <a:ext cx="2016000" cy="863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9960" y="3257640"/>
            <a:ext cx="2087280" cy="892080"/>
          </a:xfrm>
          <a:prstGeom prst="hexagon">
            <a:avLst>
              <a:gd name="adj" fmla="val 58495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68960" y="215100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080" y="3303720"/>
            <a:ext cx="141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50680" y="520704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уля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530-E72E-4001-93FC-2BC4CAE219B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430F3-0B84-47BD-AFE9-E4E9640FF8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рограммы работают через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годняшний день – 17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х партнеров, включ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Ассоциация Евроа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акс Планк Институт Плазмофи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DOE/IPP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Департамент США по энергетике/Инициатива по предотвращению распростра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 of Health/National Cancer Institute (NIH/NCI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ациональные институты здравоохранения США/Национальный институт исследования р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Европейский офис Американских воздушных сил для исследований и развития в области космонав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Bio-Chem Redirect Prog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рограмма США по переори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iculture (USDA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Департамент сельского хозяйства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Агентство по защите окружающей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3288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552-2799-46BB-9DFD-2FA0046402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D2DC5-48BD-46EE-825F-33EBCF888C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48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артнерские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-5776920" y="206064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06064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12880" y="177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8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кальных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1.5 млн ев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2960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49D-72E1-459A-A76A-F5294F48D06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EABB5-AAED-4A0A-9686-E5B87B3D19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вительственные партнеры: ключ к самодоста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, свыше 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авительственных партнеров, включа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ифорния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несота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вэ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тари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и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рмонт-Феранд,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50320" y="55872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F5C-D61F-43B4-B3B2-6FA65A3760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72ADA-22E0-4FCD-A0D4-1F69A88FB7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ра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ельственные партнерские прое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900080" y="1628640"/>
            <a:ext cx="69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0.5 млн евр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DF1-BB02-4D29-83FC-D991757FE20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22FA8-39A7-4B22-90E4-818C3FC5D5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цесс рассмотрения заявлени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0160" y="1487520"/>
            <a:ext cx="453708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7720" y="1728720"/>
            <a:ext cx="3966840" cy="749160"/>
            <a:chOff x="477720" y="1728720"/>
            <a:chExt cx="3966840" cy="749160"/>
          </a:xfrm>
        </p:grpSpPr>
        <p:sp>
          <p:nvSpPr>
            <p:cNvPr id="171" name=""/>
            <p:cNvSpPr/>
            <p:nvPr/>
          </p:nvSpPr>
          <p:spPr>
            <a:xfrm>
              <a:off x="477720" y="1728720"/>
              <a:ext cx="396684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5400" y="1744560"/>
              <a:ext cx="3790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одготовка предложения научной группой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ЕГИСТРАЦИОННАЯ СИСТЕМА 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ON-LIN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4600" y="2682720"/>
            <a:ext cx="4033440" cy="746280"/>
            <a:chOff x="444600" y="2682720"/>
            <a:chExt cx="4033440" cy="746280"/>
          </a:xfrm>
        </p:grpSpPr>
        <p:sp>
          <p:nvSpPr>
            <p:cNvPr id="174" name=""/>
            <p:cNvSpPr/>
            <p:nvPr/>
          </p:nvSpPr>
          <p:spPr>
            <a:xfrm>
              <a:off x="501120" y="2682720"/>
              <a:ext cx="39769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4600" y="2694240"/>
              <a:ext cx="394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Ходатайство о получении поддержки от ученых-коллабораторов на территории стран финансирующих сторон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8480" y="4281480"/>
            <a:ext cx="3970080" cy="745920"/>
            <a:chOff x="528480" y="4281480"/>
            <a:chExt cx="3970080" cy="745920"/>
          </a:xfrm>
        </p:grpSpPr>
        <p:sp>
          <p:nvSpPr>
            <p:cNvPr id="177" name=""/>
            <p:cNvSpPr/>
            <p:nvPr/>
          </p:nvSpPr>
          <p:spPr>
            <a:xfrm>
              <a:off x="528480" y="4281480"/>
              <a:ext cx="39700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4281480"/>
              <a:ext cx="381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ассмотрение предложений консультантами, которые нанимаются каждой из финансирующих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71960" y="5218200"/>
            <a:ext cx="4028400" cy="745920"/>
            <a:chOff x="471960" y="5218200"/>
            <a:chExt cx="4028400" cy="745920"/>
          </a:xfrm>
        </p:grpSpPr>
        <p:sp>
          <p:nvSpPr>
            <p:cNvPr id="180" name=""/>
            <p:cNvSpPr/>
            <p:nvPr/>
          </p:nvSpPr>
          <p:spPr>
            <a:xfrm>
              <a:off x="525600" y="5218200"/>
              <a:ext cx="39747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960" y="5229720"/>
              <a:ext cx="396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июнь и декабрь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3080" y="6122880"/>
            <a:ext cx="410508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близительно одно из четырех предложений в результате финансиру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8360" y="3595680"/>
            <a:ext cx="4033440" cy="528480"/>
            <a:chOff x="468360" y="3595680"/>
            <a:chExt cx="4033440" cy="528480"/>
          </a:xfrm>
        </p:grpSpPr>
        <p:sp>
          <p:nvSpPr>
            <p:cNvPr id="184" name=""/>
            <p:cNvSpPr/>
            <p:nvPr/>
          </p:nvSpPr>
          <p:spPr>
            <a:xfrm>
              <a:off x="524880" y="3595680"/>
              <a:ext cx="3976920" cy="48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60" y="3603960"/>
              <a:ext cx="394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 реципиен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168880" y="1487520"/>
            <a:ext cx="453708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81640" y="1728720"/>
            <a:ext cx="4095360" cy="1391760"/>
            <a:chOff x="5381640" y="1728720"/>
            <a:chExt cx="4095360" cy="1391760"/>
          </a:xfrm>
        </p:grpSpPr>
        <p:sp>
          <p:nvSpPr>
            <p:cNvPr id="188" name=""/>
            <p:cNvSpPr/>
            <p:nvPr/>
          </p:nvSpPr>
          <p:spPr>
            <a:xfrm>
              <a:off x="5381640" y="1728720"/>
              <a:ext cx="4095360" cy="1379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8880" y="1747800"/>
              <a:ext cx="4012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Организация на территории одной из финансирующих сторон выражает интерес к программе УНТЦ и становится ПАРТНЕРОМ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99"/>
                  </a:solidFill>
                  <a:uFillTx/>
                  <a:latin typeface="Arial"/>
                </a:rPr>
                <a:t>НЕОБХОДИМО ОДОБРЕНИЕ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30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4880" y="3255840"/>
            <a:ext cx="4104720" cy="528840"/>
            <a:chOff x="5384880" y="3255840"/>
            <a:chExt cx="4104720" cy="528840"/>
          </a:xfrm>
        </p:grpSpPr>
        <p:sp>
          <p:nvSpPr>
            <p:cNvPr id="191" name=""/>
            <p:cNvSpPr/>
            <p:nvPr/>
          </p:nvSpPr>
          <p:spPr>
            <a:xfrm>
              <a:off x="5384880" y="3255840"/>
              <a:ext cx="4104720" cy="528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17640" y="3264120"/>
              <a:ext cx="392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артнер и группа ученых разрабатывают проектное предлож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96040" y="4621320"/>
            <a:ext cx="4101480" cy="1067760"/>
            <a:chOff x="5396040" y="4621320"/>
            <a:chExt cx="4101480" cy="1067760"/>
          </a:xfrm>
        </p:grpSpPr>
        <p:sp>
          <p:nvSpPr>
            <p:cNvPr id="194" name=""/>
            <p:cNvSpPr/>
            <p:nvPr/>
          </p:nvSpPr>
          <p:spPr>
            <a:xfrm>
              <a:off x="5396040" y="4621320"/>
              <a:ext cx="4101480" cy="1067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6360" y="4645800"/>
              <a:ext cx="3943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редложение рассматривается официальными лицами каждой из финансирующих сторо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45 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8800" y="3952800"/>
            <a:ext cx="4158720" cy="526680"/>
            <a:chOff x="5338800" y="3952800"/>
            <a:chExt cx="4158720" cy="526680"/>
          </a:xfrm>
        </p:grpSpPr>
        <p:sp>
          <p:nvSpPr>
            <p:cNvPr id="197" name=""/>
            <p:cNvSpPr/>
            <p:nvPr/>
          </p:nvSpPr>
          <p:spPr>
            <a:xfrm>
              <a:off x="5397120" y="3952800"/>
              <a:ext cx="4100400" cy="525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8800" y="3959280"/>
              <a:ext cx="40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реципиент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29160" y="5848200"/>
            <a:ext cx="4101840" cy="752400"/>
            <a:chOff x="5429160" y="5848200"/>
            <a:chExt cx="4101840" cy="752400"/>
          </a:xfrm>
        </p:grpSpPr>
        <p:sp>
          <p:nvSpPr>
            <p:cNvPr id="200" name=""/>
            <p:cNvSpPr/>
            <p:nvPr/>
          </p:nvSpPr>
          <p:spPr>
            <a:xfrm>
              <a:off x="5429160" y="5848200"/>
              <a:ext cx="410184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5280" y="5867280"/>
              <a:ext cx="3827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вне цикла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184400" y="102708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егулярны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37200" y="10270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ртнерски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D3B-74A9-4F1D-9817-F1C382CC103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91BD2-193A-4ACD-B797-77545A4845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усилий: форма и процесс подачи заявления четко определ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ая конкуренция на получение финансирования: м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искателей соответствуют критериям от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й партнерский про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усилий, чтобы определить программу/мы и заполнить различные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конкурентов: каждая программа заинтересована в небольшой группе соискателей, занимающихся узконаправленными исследованиями и разработ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авительственный партнерский проек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всего усилий, чтобы найти потенциального коммерческого спон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прямых конкурентов для данного источника финанс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B6E-BC98-452B-9D16-211D73C75C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4E8B3-7A16-4791-84E8-20195EC3FB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раинский Научно-Технологический Цент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,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4552920"/>
            <a:ext cx="1800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9A0-C4F2-498F-9DA4-1E3F95A673F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F866E-22AD-429F-893D-A9066092AC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4880" y="4206960"/>
            <a:ext cx="1584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002-E6FA-465D-94C8-132CAC33F8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9A7EA-ADF5-4484-A246-1607A1D163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7058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оставляет помощь учены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ые, не облагаемые налогом платежи (гранты) прямо на личные банковские счета уче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уги по «таможенной очистк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упка оборудования и материалов без налогов и пошл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в написании проектов и руководстве про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странам-донорам достичь их политических ц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исследований в мирных цел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государственного разрешения и просмотр на предмет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 руководство проектами, включая технический и финансов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научной общественностью и возможностями в странах-реципиен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C0D-39A4-4F6A-96F7-643919B4B6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8A29D-596B-4695-99DA-20C6A3E000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должен убедить стран-доноров, что деньги правильно потрачены в целях нераспространения ядерного оружия и научных знаний в области оружия массового уничто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любому проекту по просьбе стран-доноров может быть проведен ауд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гранты должны быть такими, в которых можно отследить, что деньги идут реальным ученым, которые делают реальную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НТЦ оплата труда  является более важным, чем закупка оборудования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едлагаемые закупки обеспечивают людей возможностью работ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970-9896-4B8F-86AA-B81E69B58C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2B5D9-52BD-4459-BD36-DF9B8A6996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ход УНТЦ к управлению про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назначает персонал, который координирует каждый регулярный и партнер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ий специалист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хгалтер по проектам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 по закупкам УНТ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трудники УНТЦ на регулярной основе (согласно расписанию) проверяют каждый партнерский и регулярный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шести месяцев от даты начала работ по проек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впоследств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озникновения проблем, более ча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C10-82EE-4324-86CE-CB4B2AFB56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98F18-0B84-467F-93C5-4AE79EEAC3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регулярного прое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3760920"/>
            <a:ext cx="9566280" cy="2260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840" y="1773360"/>
            <a:ext cx="9566280" cy="20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0088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120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65600" y="3594240"/>
            <a:ext cx="366480" cy="428760"/>
            <a:chOff x="6465600" y="3594240"/>
            <a:chExt cx="366480" cy="428760"/>
          </a:xfrm>
        </p:grpSpPr>
        <p:sp>
          <p:nvSpPr>
            <p:cNvPr id="228" name=""/>
            <p:cNvSpPr/>
            <p:nvPr/>
          </p:nvSpPr>
          <p:spPr>
            <a:xfrm>
              <a:off x="678780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6560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070680" y="3313080"/>
            <a:ext cx="0" cy="525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0360" y="3252960"/>
            <a:ext cx="0" cy="53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98720" y="3281400"/>
            <a:ext cx="0" cy="507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753240" y="3592440"/>
            <a:ext cx="366480" cy="428760"/>
            <a:chOff x="6753240" y="3592440"/>
            <a:chExt cx="366480" cy="428760"/>
          </a:xfrm>
        </p:grpSpPr>
        <p:sp>
          <p:nvSpPr>
            <p:cNvPr id="234" name=""/>
            <p:cNvSpPr/>
            <p:nvPr/>
          </p:nvSpPr>
          <p:spPr>
            <a:xfrm>
              <a:off x="707544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5324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58520" y="3591000"/>
            <a:ext cx="366480" cy="428760"/>
            <a:chOff x="7058520" y="3591000"/>
            <a:chExt cx="366480" cy="428760"/>
          </a:xfrm>
        </p:grpSpPr>
        <p:sp>
          <p:nvSpPr>
            <p:cNvPr id="237" name=""/>
            <p:cNvSpPr/>
            <p:nvPr/>
          </p:nvSpPr>
          <p:spPr>
            <a:xfrm>
              <a:off x="73814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852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362720" y="3592440"/>
            <a:ext cx="366480" cy="428760"/>
            <a:chOff x="7362720" y="3592440"/>
            <a:chExt cx="366480" cy="428760"/>
          </a:xfrm>
        </p:grpSpPr>
        <p:sp>
          <p:nvSpPr>
            <p:cNvPr id="240" name=""/>
            <p:cNvSpPr/>
            <p:nvPr/>
          </p:nvSpPr>
          <p:spPr>
            <a:xfrm>
              <a:off x="76849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627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667640" y="3591000"/>
            <a:ext cx="366480" cy="428760"/>
            <a:chOff x="7667640" y="3591000"/>
            <a:chExt cx="366480" cy="428760"/>
          </a:xfrm>
        </p:grpSpPr>
        <p:sp>
          <p:nvSpPr>
            <p:cNvPr id="243" name=""/>
            <p:cNvSpPr/>
            <p:nvPr/>
          </p:nvSpPr>
          <p:spPr>
            <a:xfrm>
              <a:off x="79898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6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972200" y="3592440"/>
            <a:ext cx="366480" cy="428760"/>
            <a:chOff x="7972200" y="3592440"/>
            <a:chExt cx="366480" cy="428760"/>
          </a:xfrm>
        </p:grpSpPr>
        <p:sp>
          <p:nvSpPr>
            <p:cNvPr id="246" name=""/>
            <p:cNvSpPr/>
            <p:nvPr/>
          </p:nvSpPr>
          <p:spPr>
            <a:xfrm>
              <a:off x="82944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722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277120" y="3594240"/>
            <a:ext cx="366480" cy="428760"/>
            <a:chOff x="8277120" y="3594240"/>
            <a:chExt cx="366480" cy="428760"/>
          </a:xfrm>
        </p:grpSpPr>
        <p:sp>
          <p:nvSpPr>
            <p:cNvPr id="249" name=""/>
            <p:cNvSpPr/>
            <p:nvPr/>
          </p:nvSpPr>
          <p:spPr>
            <a:xfrm>
              <a:off x="85993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771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582040" y="3591000"/>
            <a:ext cx="366480" cy="428760"/>
            <a:chOff x="8582040" y="3591000"/>
            <a:chExt cx="366480" cy="428760"/>
          </a:xfrm>
        </p:grpSpPr>
        <p:sp>
          <p:nvSpPr>
            <p:cNvPr id="252" name=""/>
            <p:cNvSpPr/>
            <p:nvPr/>
          </p:nvSpPr>
          <p:spPr>
            <a:xfrm>
              <a:off x="89042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820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327400" y="2205000"/>
            <a:ext cx="176184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л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6480" y="2205000"/>
            <a:ext cx="213840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говор по проекту и Рабочи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9200" y="2205000"/>
            <a:ext cx="185436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явка (короткая 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08240"/>
            <a:ext cx="289548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артальные, технические, ежегод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7894800" y="3284280"/>
            <a:ext cx="100944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427880" y="3284280"/>
            <a:ext cx="46692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894800" y="3284280"/>
            <a:ext cx="380880" cy="32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834240" y="3284280"/>
            <a:ext cx="106056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1204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4004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08480" y="359100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412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02528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5280" y="3952800"/>
            <a:ext cx="22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едание Административного сов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7440" y="3948120"/>
            <a:ext cx="2160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проводительное письм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240" y="3946680"/>
            <a:ext cx="2509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. исполнительного директора одобряе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 про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2120" y="3946680"/>
            <a:ext cx="34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65280" y="5064120"/>
            <a:ext cx="2238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4360" y="5064120"/>
            <a:ext cx="249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 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40480" y="4941720"/>
            <a:ext cx="24814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72120" y="3746160"/>
            <a:ext cx="0" cy="13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16120" y="323064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24120" y="378792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80" y="1747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3760" y="55641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7E5-87A8-4890-A96C-CF5A75231B9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DBFC2-1C77-4781-AD81-F62CDB59DD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партнерского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0160" y="1844640"/>
            <a:ext cx="9432720" cy="19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0160" y="3813120"/>
            <a:ext cx="9432720" cy="24242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240" y="1773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5600" y="58053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335592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330720"/>
            <a:ext cx="0" cy="506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000" y="2357280"/>
            <a:ext cx="196200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овик пятистраничной фор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38720" y="2357280"/>
            <a:ext cx="1676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тнерский контра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7083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6702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56840" y="383364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81480" y="383328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3664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62240" y="2357280"/>
            <a:ext cx="201924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истраничная форма-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330720"/>
            <a:ext cx="0" cy="44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5537160"/>
            <a:ext cx="2475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601800" y="3482640"/>
            <a:ext cx="76320" cy="98460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1040" y="397512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7996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112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945040" y="3666960"/>
            <a:ext cx="366480" cy="428760"/>
            <a:chOff x="5945040" y="366696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26724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504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232320" y="3665520"/>
            <a:ext cx="366480" cy="428760"/>
            <a:chOff x="6232320" y="366552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655452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3232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537240" y="3664080"/>
            <a:ext cx="366480" cy="428760"/>
            <a:chOff x="6537240" y="3664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685944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724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842880" y="3665520"/>
            <a:ext cx="366480" cy="428760"/>
            <a:chOff x="6842880" y="366552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16436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4288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146720" y="3664080"/>
            <a:ext cx="366480" cy="428760"/>
            <a:chOff x="7146720" y="366408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746892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4672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451640" y="3665520"/>
            <a:ext cx="366480" cy="428760"/>
            <a:chOff x="7451640" y="3665520"/>
            <a:chExt cx="366480" cy="428760"/>
          </a:xfrm>
        </p:grpSpPr>
        <p:sp>
          <p:nvSpPr>
            <p:cNvPr id="316" name=""/>
            <p:cNvSpPr/>
            <p:nvPr/>
          </p:nvSpPr>
          <p:spPr>
            <a:xfrm>
              <a:off x="777384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164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756200" y="3666960"/>
            <a:ext cx="366480" cy="428760"/>
            <a:chOff x="7756200" y="3666960"/>
            <a:chExt cx="366480" cy="428760"/>
          </a:xfrm>
        </p:grpSpPr>
        <p:sp>
          <p:nvSpPr>
            <p:cNvPr id="319" name=""/>
            <p:cNvSpPr/>
            <p:nvPr/>
          </p:nvSpPr>
          <p:spPr>
            <a:xfrm>
              <a:off x="807840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5620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383680" y="3664080"/>
            <a:ext cx="0" cy="17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62200" y="381636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2357280"/>
            <a:ext cx="2981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результаты, кварталь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316640" y="3330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905520" y="3330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7316280" y="3330720"/>
            <a:ext cx="438120" cy="35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313320" y="3330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91120" y="383364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160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92560" y="4284720"/>
            <a:ext cx="1805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аво Финансирующих сторон отказ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5240" y="39974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772480" y="2865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915400" y="302256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809200" y="3184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8809200" y="2894040"/>
            <a:ext cx="3283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518148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1480" y="518148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80" y="50292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енеджер Партнерской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990720" y="3860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37048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95880" y="537048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43680" y="5232240"/>
            <a:ext cx="217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485136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376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6160" y="330372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85240" y="2700360"/>
            <a:ext cx="1014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арт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97600" y="5516640"/>
            <a:ext cx="2475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1A5-BD56-47C4-9290-82B5847721D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00A8C-181F-48C3-BA8B-02CBCC6138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бывшим ученым - «оборонщикам» интегрироваться в мировую научную обществ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ть своих западных коллег в заинтересованном участии в осуществлении 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абор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сех регулярных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ездки на конференции и встречи с Западными коллегами поощряю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202-2AAC-450A-9492-3801C70C531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DB593-7D74-45F4-A653-24BB3A99B9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начи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лаборато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или технический эксперт с территории финансирующей стороны, которы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ет участие как «неоплачиваемый» советник в регулярных проектах УНТЦ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исьменной форме поручается в помощи получателям гранта УНТ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их вовлеченности может варьир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ум ожид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 рабоче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технических качеств и осуществимости данно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данной «оценки» с научной командой и финансирующей сторо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ивание контактов с членами команды на регулярной основе в течение выполнения прое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организации может быть различ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й или частный сектор может быть полезным для уче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ческая или правительственная принадлежность лаборатории, что на данный момент более часто встреч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237-79B0-4D85-9805-B937F15FBA6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F8B66-AE1A-4405-9DF8-58E5B09A5F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868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вынесения решения о финансировании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 при разработке черновика предложения и рабочего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Просмотр и оценка рабочего плана после получения Правительственного разрешения</a:t>
            </a:r>
            <a:r>
              <a:rPr b="0" lang="en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ываетс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научного предложения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мость подхода и временные пределы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оборуд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 период рассмотрения проектного предложения поддержание контактов с командой по проекту и финансирующими сторонами касательно результатов оценки,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ражается как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го плана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лон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омментариями и причинами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аниченное 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писаниями конкретных моментов, которые его беспокоят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2160" y="63752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CA9-6A7F-44F3-934D-7471A531285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339B4-7D02-454B-82E0-9BB9AC6C02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го, как проект зафинансиров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егулярно поддерживают контакты по электронной почте с институтом и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траны СНГ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осматривают квартальные отчеты по проектам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ет команде проекта изменить техническую и коммерческую терминологию и язык для того, чтобы довести содержание до уровня, понятного северо-американскому или европейскому читател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цензе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технической информацией и помощь, включая совместный просмотр технических отч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едоставляют рекомендац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это необход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еспечения выполнения целей проекта, как это было указано в Рабочем пл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знаниями о разработках в прикладной науке и технологиях, касающихся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76520" y="6237360"/>
            <a:ext cx="56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9D5-CD18-45C8-B44E-7F3A711C4F5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AC41E-358F-4869-8204-27D7F5BF43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т других иностранных коллабораторов для помощи коман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ают результаты похожих текущих исследований на Западе, в частности, в лаборатории, где работает сам коллабора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дефицитными материалами, пробами, образца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ресурсам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оектной команде выбирать наиболее выгодные исследовательские инструменты, оборудование и необходимые химик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или параллельные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и интерпретаци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тверждают результаты, используя независимые методы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оборудование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49600" y="6375240"/>
            <a:ext cx="60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956-EF7D-449C-84DD-FF67504AFC8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618CD-D3FF-49B3-A2CA-B5BAE3F023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ление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ссия УНТ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уда приходит эта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оддержки, которую мы оказывае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регулярны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ртнерски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еще делает УНТ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путь вам выбр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8E8-6F3F-4FDB-8DDD-677116F6E7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6D72E-1310-4B2D-8743-96D43DB0DC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семинары, конференции и 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глашают ученых из команды проекта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озволяют использовать оборудование в лаборатории коллаборат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щают места, где осуществляются научные проекты УНТЦ: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уется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инимум один, но не более трех раз в течение всего периода прохождения проекта УНТЦ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атривают и вносят поправки в черновой вариант финального отчета для того, чтобы удостовериться, что он четко отражает результаты проведенного исследования;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публикациями и/или с использованием результатов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коммерциализацией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5240" y="6375240"/>
            <a:ext cx="64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3E3-C75C-48D5-B5FB-F67E8BD66E4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015D6-58E7-4C39-9ADA-01A95101B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иск коллабо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методы использовались в поиске коллабораторов другими учеными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по Интернету людей, которые работают в той же об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ициирование переписки с авторами публикаций и докладов на конференц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о и налаживание контактов во время посещения международных конференций и выстав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 с Партнерской группой УНТЦ, Старшими  специалистами и другими сотрудниками, которые имеют опыт в установлении сотрудничества с международными институт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84520" y="5373720"/>
            <a:ext cx="6264000" cy="108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а же методология используется при поиске возможных источников финанс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4FA-8834-4846-89EF-21C7EA1EF8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AB0F6-14CF-4B56-9385-8C738DFB04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установить контакт с потенциальным коллаборато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рекомендуют ученые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ьтес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ш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 опыт в данной сфере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что может быть интересного для коллаборатора в предложенном вами проек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осите, знает ли он кого-нибудь, кто может быть заинтересован в том, чтобы участвовать на нефинансовой основе как советник по вашему проек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 скаж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мог бы заинтерес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”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г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шите возможности помощи коллабора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ьте ознакомительные материалы об УНТ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более детальную информац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дписанием соглашения о нераспространении информации, если проект коммерчески в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581-0890-4EED-AA10-2F42981965D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A2379-C985-4EFA-928F-63B0B63D82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западного Коллаборато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ы с очень опытными учены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женерами из Грузии, Узбекистана и Азербайдж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экспериментах на уникальных установках и оборудов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щитой Прав интеллектуальной собственности для участников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ная направленность и результативность научно-исследовательской деятельности посредством обмена информацией и консульта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ьное участие в коммерциализации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1FC-C7A7-40F0-92EC-E84953D1458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D7A95-59CE-4882-89DB-9D1FE55914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участников проектов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в разработке и выполнении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ренность в  том, что проекты не дублируют уже существующие попытки в тех же областях нау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в определении подходящих источников специальных материалов и оборудования для использования в проек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новых навыков, опыта и контактов с подобными центрами в других стран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ство о том, как лучше в международном масштабе использовать результаты исследований и разраб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срочное сотрудничество по науке и технологии, полученное из опыта работы по выполнению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776-6979-4164-8672-99D97AF57AC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0AB11-4348-4C5A-806A-EE0643BED1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а поддер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 - это достаточно пассивное выражение согласия Западным ученым касательно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ого, команды проекта или института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текущего ил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го предыдущего опыта работы с командой по проекту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отличается от согласия быть Коллаборатором наличием двух элементов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е содержит конкретной оценки сильных сторон данного предложения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жает четкого обязательства участия или вовлечения в данный проект в будущем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6C1-945E-412E-8050-249D9895721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E009D-4AC0-4EDC-B9BB-87323DE2BA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бования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ая политика УНТЦ требу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 письмо Коллаборатора или два письма поддержки до того, как регулярный проект будет выставлен УНТЦ на западную экспертизу Финансирующих стор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ект выбран для финансирования, команда по проекту должна найти коллаборатора с территории Финансирующей стороны до того, как будет закончена работа по подготовке проектного согла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ое письмо Коллаборатора было из ЕС, а проект зафинансирован США, то необходимо будет найти Коллаборатора из СШ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 проекта есть только письма поддержки, то нужно будет найти Коллабо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66920" y="5877000"/>
            <a:ext cx="718668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сех зафинансированных проектов УНТЦ должен быть партнер или Коллаборато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963-F49F-4CF8-8A47-4B09727597F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0BBFC-7BF0-42CA-8968-618655B752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лагает ученым три пути финансир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, финансируются из совместн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государственными организа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коммерческими организа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и пути имеют общие элемент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ое разрешение страны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й мониторинг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Западного научного или технического персонала, либо как Партнеров (доноров) либо как Коллабораторов (добровольных сове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D15-53CB-4A58-8CA0-416937868C4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AC427-CF72-4CB7-9F5B-74623C70FB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а ми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простра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твращать распространение опыта создания оружия массового поражения (ОМП) путем  поддержания научно-исследовательской деятельности, направленной на гражданские потребности ученых и инженеров Азербайджана, Грузии, Молдовы, Украины и Узбекистана, которые в  прошлом занимались разработкой оружия массового поражения и средств его доста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ойчивая переориент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условия бывшим ученым и инженерам – «оборонщикам» для устойчивого развития научно-исследовательской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4675320"/>
            <a:ext cx="869004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иметь право на получение финансирования УНТЦ, по меньшей мере 30%, а желательно 50% членов предлагаемой команды проекта должны иметь в прошлом стаж работы с оборонны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крытыми» тематика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24160" y="638172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о том, как соответствовать этому критерию вы найдете в слайдах «Кто может подавать заявление на получение гранта?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9B3-4EF4-4647-9807-72D15C7C8B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A8EBB-14C7-4739-A1C1-D25F6790A5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303120" y="6353280"/>
            <a:ext cx="6937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663040" y="4749840"/>
            <a:ext cx="428040" cy="725040"/>
            <a:chOff x="8663040" y="4749840"/>
            <a:chExt cx="428040" cy="725040"/>
          </a:xfrm>
        </p:grpSpPr>
        <p:sp>
          <p:nvSpPr>
            <p:cNvPr id="68" name=""/>
            <p:cNvSpPr/>
            <p:nvPr/>
          </p:nvSpPr>
          <p:spPr>
            <a:xfrm>
              <a:off x="866304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9704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32160" y="631836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ующие стороны и страны – реципиен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03400" y="4749840"/>
            <a:ext cx="428400" cy="736200"/>
            <a:chOff x="2903400" y="4749840"/>
            <a:chExt cx="428400" cy="736200"/>
          </a:xfrm>
        </p:grpSpPr>
        <p:sp>
          <p:nvSpPr>
            <p:cNvPr id="73" name=""/>
            <p:cNvSpPr/>
            <p:nvPr/>
          </p:nvSpPr>
          <p:spPr>
            <a:xfrm>
              <a:off x="2903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7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85136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560" y="3200400"/>
            <a:ext cx="463680" cy="609480"/>
          </a:xfrm>
          <a:prstGeom prst="downArrow">
            <a:avLst>
              <a:gd name="adj1" fmla="val 50000"/>
              <a:gd name="adj2" fmla="val 32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1680" y="635328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59160" y="164160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7688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120160" y="5481720"/>
            <a:ext cx="1512720" cy="83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95200" y="5481720"/>
            <a:ext cx="1792440" cy="83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440080" y="5486400"/>
            <a:ext cx="1338120" cy="831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2880" y="3813120"/>
            <a:ext cx="939960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3900" spc="-1" strike="noStrike">
                <a:solidFill>
                  <a:srgbClr val="000000"/>
                </a:solidFill>
                <a:latin typeface="Arial Narrow"/>
              </a:rPr>
              <a:t>Украинский научно-технологический центр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719760" y="4751280"/>
            <a:ext cx="428400" cy="726840"/>
            <a:chOff x="6719760" y="4751280"/>
            <a:chExt cx="428400" cy="726840"/>
          </a:xfrm>
        </p:grpSpPr>
        <p:sp>
          <p:nvSpPr>
            <p:cNvPr id="86" name=""/>
            <p:cNvSpPr/>
            <p:nvPr/>
          </p:nvSpPr>
          <p:spPr>
            <a:xfrm>
              <a:off x="671976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376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79560" y="4751280"/>
            <a:ext cx="426600" cy="728280"/>
            <a:chOff x="979560" y="4751280"/>
            <a:chExt cx="426600" cy="728280"/>
          </a:xfrm>
        </p:grpSpPr>
        <p:sp>
          <p:nvSpPr>
            <p:cNvPr id="89" name=""/>
            <p:cNvSpPr/>
            <p:nvPr/>
          </p:nvSpPr>
          <p:spPr>
            <a:xfrm>
              <a:off x="97956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284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17600" y="1628640"/>
            <a:ext cx="151452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8089920" y="166068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1972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5080" y="6330960"/>
            <a:ext cx="143496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43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0480" y="2465280"/>
            <a:ext cx="176868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04160" y="2465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778200" y="548604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0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0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84520" y="2682360"/>
            <a:ext cx="2879280" cy="675000"/>
            <a:chOff x="1784520" y="2682360"/>
            <a:chExt cx="2879280" cy="675000"/>
          </a:xfrm>
        </p:grpSpPr>
        <p:sp>
          <p:nvSpPr>
            <p:cNvPr id="104" name=""/>
            <p:cNvSpPr/>
            <p:nvPr/>
          </p:nvSpPr>
          <p:spPr>
            <a:xfrm flipV="1">
              <a:off x="1784520" y="2681640"/>
              <a:ext cx="2879280" cy="675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8440" y="2760840"/>
              <a:ext cx="2300760" cy="472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24520" y="3213000"/>
            <a:ext cx="463680" cy="609840"/>
          </a:xfrm>
          <a:prstGeom prst="downArrow">
            <a:avLst>
              <a:gd name="adj1" fmla="val 50000"/>
              <a:gd name="adj2" fmla="val 328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43440" y="2701440"/>
            <a:ext cx="2516040" cy="628920"/>
            <a:chOff x="5743440" y="2701440"/>
            <a:chExt cx="2516040" cy="628920"/>
          </a:xfrm>
        </p:grpSpPr>
        <p:sp>
          <p:nvSpPr>
            <p:cNvPr id="108" name=""/>
            <p:cNvSpPr/>
            <p:nvPr/>
          </p:nvSpPr>
          <p:spPr>
            <a:xfrm flipV="1">
              <a:off x="5743440" y="2701080"/>
              <a:ext cx="2516040" cy="62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76360" y="2811960"/>
              <a:ext cx="2010960" cy="4402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20048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2F5-3C0F-4739-BEFE-752C9B1BD32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E5748-CD88-4B3C-A723-C2A0836C62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местные научные исследования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правительствами финансирующих стор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организациями, представляющи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территориях  стран – финансирующи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итель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тнер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4720" y="4797360"/>
            <a:ext cx="252252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уляр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40360" y="4797360"/>
            <a:ext cx="3692520" cy="1513080"/>
            <a:chOff x="5940360" y="4797360"/>
            <a:chExt cx="3692520" cy="1513080"/>
          </a:xfrm>
        </p:grpSpPr>
        <p:sp>
          <p:nvSpPr>
            <p:cNvPr id="120" name=""/>
            <p:cNvSpPr/>
            <p:nvPr/>
          </p:nvSpPr>
          <p:spPr>
            <a:xfrm>
              <a:off x="5961240" y="4797360"/>
              <a:ext cx="3528720" cy="1513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0360" y="5157720"/>
              <a:ext cx="369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правительстве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артнерские проек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0C1-1616-442D-AA8E-E4AEC604C9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3638E-350E-498F-B395-01405BF4B7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 вида проектов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2520" y="1557000"/>
            <a:ext cx="9137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о финансировании рассматривается на основании многих факторов, таких как технические качества, вклад в достижение целей о нераспространении ОМП, стратегические приоритеты финансирующих сторон, потенциал для интеграции ученых в мировое научное сообщество, коммерческий потенциал или перспективы для устойчивой самодостато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рассматривается на конку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й основе с другими регулярными проектными предлож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аждого партнера свои деньги и свои прав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авительстве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 конкуренции: просто нужно найти партнера, который бы хотел профинансировать проект и получить разрешение УНТ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4520" y="4272120"/>
            <a:ext cx="1228680" cy="525240"/>
          </a:xfrm>
          <a:prstGeom prst="hexagon">
            <a:avLst>
              <a:gd name="adj" fmla="val 5848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524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21200" y="141768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19A-1AE8-49F1-96D4-C431434BFA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FC54D-C3D3-4C2E-9F1D-2D5F291E62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92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роны – реципиента УНТЦ представляют на рассмотрение проектные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, университет, конструкторское бюро, государственное предприятие, корпорация, частная компания, фонд, учреждение, или другая юридически зарегистрированная организация.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организаций из одной или более стран-реципиентов УНТЦ могут представить на рассмотрение «совместное предложени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ы проек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ют предложения под руководств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ей про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лучатели грантов должны являться гражданами стран-реципиентов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проекта должна состоять по меньшей мер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редпочтительн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бывших военных уче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раньше занимались разработкой ОМП и средствами их до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ые ученые также могут принимать участие в проекте. Они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же могут формировать и руководить своими собственными командами, при соблюдении вышеуказанного услов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2880" y="6453360"/>
            <a:ext cx="1295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67D-84A2-4931-845B-92DBE4B032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94910-EEA4-4250-961E-1183BA5340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е предложения способствуют небольшим группам ученым эффективно конкурировать в получении гранта. Они позволяют им добавить ресурсы других организаций и в результате включить в команду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е количество бывших военных ученых, чтобы соответствовать критериям УНТ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ов с навыками или знаниями, необходимыми для достижения целе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6FC-E730-4175-8A46-6BCE46AF0A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D22BE-503A-4A2D-BED3-7855398F1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11T14:06:21Z</dcterms:modified>
  <cp:revision>101</cp:revision>
  <dc:subject/>
  <dc:title>Grant-Writing Workshop:  Competing More Effectively</dc:title>
</cp:coreProperties>
</file>